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49DA-5B0C-460D-A9FF-E9C9393B6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56DE-F72D-48EA-A1DF-49E14AF46F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76E-4DC8-4E55-A561-32ED083E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4D2-843F-433C-8B5F-D77B3C0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7E6-E202-4C42-91BF-A51CD86A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3F0-75C3-4265-8838-7578E80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282-500D-42A5-B763-4B20C14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032-1A7B-4847-8C2B-947CE37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DAF-B5C8-4B34-A29D-891F58B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825-0370-4BDD-95DD-D501EC0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CAE-B547-4D38-AD3E-0E518FAE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1C7-BD7A-47AD-90DF-2C2287F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137-985B-4C2E-8E15-491EF5C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EA0-DA9D-47C1-A679-B04A4DF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F3E-018C-48F8-8CE5-CA8F9122B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2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2.png"/><Relationship Id="rId23" Type="http://schemas.openxmlformats.org/officeDocument/2006/relationships/image" Target="../media/image53.png"/><Relationship Id="rId24" Type="http://schemas.openxmlformats.org/officeDocument/2006/relationships/image" Target="../media/image54.png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орядок учета бюджетных и денежных обязательст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меститель начальн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дела кассов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служивания исполн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бюджетов Т.Н.Писател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12320" cy="554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392040" y="1413000"/>
            <a:ext cx="8358120" cy="122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539640" y="2638440"/>
            <a:ext cx="3395880" cy="37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4716360" y="2638440"/>
            <a:ext cx="3640320" cy="371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419040" y="3032280"/>
            <a:ext cx="3087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части </a:t>
            </a:r>
            <a:r>
              <a:rPr b="0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ринимаем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бюджетных обязательств и в случаях формирования Сведений о БО органами ФК («авто» БО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звра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 приложением Протокол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244440" y="4202280"/>
            <a:ext cx="3916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части </a:t>
            </a:r>
            <a:r>
              <a:rPr b="0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ринятых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юджетных обязательств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становка на уч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юджетного  обязательст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сение изменений в ранее поставленное на учет бюджетное обязательство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вл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Б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Извещения о постановке на учет (изменении) бюджетного обязатель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БС и ПБ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Уведомления о превышении бюджетным обязательством неиспользованных лимитов бюджетных обязательст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5003640" y="3436920"/>
            <a:ext cx="32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ановка на уч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юджетного  обязательства (внесение изменений в ранее поставленное на учет бюджетное обязательство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вление ПБС – Извещения о постановке на учет (изменении) бюджетного обязатель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хема 2" descr=""/>
          <p:cNvPicPr/>
          <p:nvPr/>
        </p:nvPicPr>
        <p:blipFill>
          <a:blip r:embed="rId1"/>
          <a:stretch/>
        </p:blipFill>
        <p:spPr>
          <a:xfrm>
            <a:off x="1762200" y="262080"/>
            <a:ext cx="5619600" cy="384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08000" y="861840"/>
            <a:ext cx="8928000" cy="1585800"/>
          </a:xfrm>
          <a:prstGeom prst="rect">
            <a:avLst/>
          </a:prstGeom>
          <a:solidFill>
            <a:srgbClr val="c6d9f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ановка на учет денежного обязательства и внесение изменений в поставленное на учет денежное обязательство осуществляется в соответствии со Сведениями о денежном обязательстве (код формы 050610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нежные обязательства учитываются на лицевом счет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чателя бюджетных средств или на лицевом счете для учета операций по переданным полномочиям получателя бюджетных средст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и о поставленных на учет денежных обязательствах (о внесенных изменений в поставленные на учет денежные обязательства) осуществляется органами Федерального казначейства путем предоставления получателю бюджетных средств выписки из соответствующего лицевого счет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33360" y="2446200"/>
            <a:ext cx="8291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едения о ДО, включая авансовые платежи, предусмотренные условиями государственного контракта, договора формируются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5148360" y="3284640"/>
            <a:ext cx="0" cy="2523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33360" y="2708280"/>
            <a:ext cx="4599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Calibri"/>
              </a:rPr>
              <a:t>получателем средств бюджетов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не позднее </a:t>
            </a: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трех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 рабочих дней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 дня возникновения денежного обязательства в случае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сполнения денежного обязательства неоднократно (в том числе с учетом ранее произведенных авансовых платежей)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дтверждения поставки товаров, выполнения работ, оказания услуг по ранее произведенным авансовым платежам в соответствии с условиями государственного контракта (договора)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сполнения денежного обязательства в период, превышающий срок, установленный для оплаты денежного обязатель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489640" y="2741760"/>
            <a:ext cx="3186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Calibri"/>
              </a:rPr>
              <a:t>органом Федерального казначей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 случае исполнения денежного обязательства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одним платежным документом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сумма которого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вна сумме денежного обязательства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подлежащего постановке на учет, на основании информации, содержащейся в представленных получателем средств федерального бюджета в орган Федерального казначейства платежных документах для оплаты соответствующих денежных обязательств,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не позднее </a:t>
            </a: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следующего </a:t>
            </a:r>
            <a:r>
              <a:rPr b="0" i="1" lang="ru-RU" sz="1300" spc="-1" strike="noStrike" u="sng">
                <a:solidFill>
                  <a:srgbClr val="000000"/>
                </a:solidFill>
                <a:uFillTx/>
                <a:latin typeface="Calibri"/>
              </a:rPr>
              <a:t>рабочего дня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 дня представления указанных платежных документ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468360" y="6002280"/>
            <a:ext cx="8156520" cy="52020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 Сведения о ДО осуществляется органом Федерального казначейст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позднее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ледующег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бочего дн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 дня их представления получателем средст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1"/>
          <p:cNvSpPr/>
          <p:nvPr/>
        </p:nvSpPr>
        <p:spPr>
          <a:xfrm>
            <a:off x="1187280" y="1035000"/>
            <a:ext cx="6769440" cy="65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становка на учет Денежного обязательства в ОрФК осуществля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345960" y="1773360"/>
            <a:ext cx="3889440" cy="469080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690800"/>
              <a:gd name="textAreaBottom" fmla="*/ 4501080 h 4690800"/>
            </a:gdLst>
            <a:ahLst/>
            <a:rect l="textAreaLeft" t="textAreaTop" r="textAreaRight" b="textAreaBottom"/>
            <a:pathLst>
              <a:path w="21600" h="26050">
                <a:moveTo>
                  <a:pt x="3600" y="0"/>
                </a:moveTo>
                <a:arcTo wR="3600" hR="3600" stAng="16200000" swAng="-5400000"/>
                <a:lnTo>
                  <a:pt x="0" y="22450"/>
                </a:lnTo>
                <a:arcTo wR="3600" hR="3600" stAng="10800000" swAng="-5400000"/>
                <a:lnTo>
                  <a:pt x="18000" y="260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основании документа «Сведения о денежном обязательстве» (код формы 0506102),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уемого ПБ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редоставляемого в ОрФК в следующих случая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исполнения ДО неоднократно (в том числе с учетом ранее произведенных авансовых платежей), при этом осуществляется визуальный контро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дтверждения поставки товаров, выполнения работ, оказания услуг по ранее произведенным авансовым платежам в соответствии с условиями государственного контракта (договора), при этом осуществляется визуальный контро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4410000" y="1700280"/>
            <a:ext cx="4626000" cy="4763880"/>
          </a:xfrm>
          <a:custGeom>
            <a:avLst/>
            <a:gdLst>
              <a:gd name="textAreaLeft" fmla="*/ 225720 w 4626000"/>
              <a:gd name="textAreaRight" fmla="*/ 4400280 w 4626000"/>
              <a:gd name="textAreaTop" fmla="*/ 225720 h 4763880"/>
              <a:gd name="textAreaBottom" fmla="*/ 4538160 h 4763880"/>
            </a:gdLst>
            <a:ahLst/>
            <a:rect l="textAreaLeft" t="textAreaTop" r="textAreaRight" b="textAreaBottom"/>
            <a:pathLst>
              <a:path w="21600" h="22244">
                <a:moveTo>
                  <a:pt x="3600" y="0"/>
                </a:moveTo>
                <a:arcTo wR="3600" hR="3600" stAng="16200000" swAng="-5400000"/>
                <a:lnTo>
                  <a:pt x="0" y="18644"/>
                </a:lnTo>
                <a:arcTo wR="3600" hR="3600" stAng="10800000" swAng="-5400000"/>
                <a:lnTo>
                  <a:pt x="18000" y="22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матически на основании платежных документов «Заявка на кассовый расход» и «Сокращенная заявка на кассовый расход», «Заявка на получение наличных денег», «Заявка на получение денежных средств, перечисляемых на карту», «Сводная заявка на кассовый расход» (далее – ЗКР)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АвтоДО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Если ЗКР предоставлена по ранее учтенному БО (т.е. указан номер БО) и в ЗКР в Разделе 2 «Реквизиты документа основания» в графе «Вид» указаны значения, отличные от «ДО» (т.е. не указан номер ДО). При этом сумма, указанная в ЗКР, равна сумме, указанной в документе, на основании которого возникло  денежное обязательств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Если в ЗКР не заполнен номер БО и номер ДО. При этом сумма, указанная в ЗКР, равна сумме, указанной в документе, подтверждающем возникновение Д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троль на соответствие суммы, указанной в ЗКР, сумме, указанной в документе, подтверждающем возникновение ДО, осуществляется визуаль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A2D0-D8F5-478E-B550-A9259C709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денежных обязательств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кругленный прямоугольник 41"/>
          <p:cNvSpPr/>
          <p:nvPr/>
        </p:nvSpPr>
        <p:spPr>
          <a:xfrm>
            <a:off x="5684760" y="1854360"/>
            <a:ext cx="3324240" cy="3079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9"/>
          <p:cNvSpPr/>
          <p:nvPr/>
        </p:nvSpPr>
        <p:spPr>
          <a:xfrm>
            <a:off x="154080" y="1878120"/>
            <a:ext cx="3701880" cy="3079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3730680" y="1144800"/>
            <a:ext cx="2138400" cy="3373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Прямая со стрелкой 47"/>
          <p:cNvCxnSpPr/>
          <p:nvPr/>
        </p:nvCxnSpPr>
        <p:spPr>
          <a:xfrm>
            <a:off x="4705200" y="1541520"/>
            <a:ext cx="1426320" cy="473760"/>
          </a:xfrm>
          <a:prstGeom prst="straightConnector1">
            <a:avLst/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118" name="TextBox 84"/>
          <p:cNvSpPr/>
          <p:nvPr/>
        </p:nvSpPr>
        <p:spPr>
          <a:xfrm>
            <a:off x="881640" y="2014560"/>
            <a:ext cx="29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О формирует ПБ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Прямая со стрелкой 98"/>
          <p:cNvCxnSpPr/>
          <p:nvPr/>
        </p:nvCxnSpPr>
        <p:spPr>
          <a:xfrm flipH="1">
            <a:off x="3222360" y="1541520"/>
            <a:ext cx="1467360" cy="673920"/>
          </a:xfrm>
          <a:prstGeom prst="straightConnector1">
            <a:avLst/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120" name="TextBox 97"/>
          <p:cNvSpPr/>
          <p:nvPr/>
        </p:nvSpPr>
        <p:spPr>
          <a:xfrm>
            <a:off x="316080" y="5148360"/>
            <a:ext cx="8662680" cy="124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 исключени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ов , указанных в пункте 8 (записка расчет об исчислении среднего заработка при предоставлении отпуска, увольнении и других случаях, Расчетно-платежная ведомость, Расчетная ведомость, иной документ, связанный с реализацией трудовых функций работника),  строках 1 (Авансовый отчет), 6-12 (договор с физ. лицом,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явление на выдачу денежных средств под отчет, Заявление физического лица, Квитанция, Приказ о направлении в командировку, Служебная записка, Справка-расчет) пункта 11 графы 3 Перечня документов к Поря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ая выноска 114"/>
          <p:cNvSpPr/>
          <p:nvPr/>
        </p:nvSpPr>
        <p:spPr>
          <a:xfrm>
            <a:off x="3760920" y="1800720"/>
            <a:ext cx="1711080" cy="6418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 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3" descr=""/>
          <p:cNvPicPr/>
          <p:nvPr/>
        </p:nvPicPr>
        <p:blipFill>
          <a:blip r:embed="rId3"/>
          <a:stretch/>
        </p:blipFill>
        <p:spPr>
          <a:xfrm>
            <a:off x="1962000" y="274680"/>
            <a:ext cx="6724800" cy="718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6"/>
          <p:cNvSpPr/>
          <p:nvPr/>
        </p:nvSpPr>
        <p:spPr>
          <a:xfrm>
            <a:off x="5869080" y="2409840"/>
            <a:ext cx="1309680" cy="5806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345960" y="2584800"/>
            <a:ext cx="1622520" cy="3373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О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4"/>
          <p:cNvSpPr/>
          <p:nvPr/>
        </p:nvSpPr>
        <p:spPr>
          <a:xfrm>
            <a:off x="5905440" y="20145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О формирует ТОФ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2235240" y="2478240"/>
            <a:ext cx="1495440" cy="520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-осн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2000520" y="25844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345960" y="3286440"/>
            <a:ext cx="747720" cy="520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№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1220760" y="3286440"/>
            <a:ext cx="747720" cy="520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№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Прямая со стрелкой 54"/>
          <p:cNvCxnSpPr>
            <a:endCxn id="128" idx="0"/>
          </p:cNvCxnSpPr>
          <p:nvPr/>
        </p:nvCxnSpPr>
        <p:spPr>
          <a:xfrm>
            <a:off x="718920" y="2922480"/>
            <a:ext cx="1080" cy="36252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Прямая со стрелкой 55"/>
          <p:cNvCxnSpPr/>
          <p:nvPr/>
        </p:nvCxnSpPr>
        <p:spPr>
          <a:xfrm>
            <a:off x="1599840" y="2922480"/>
            <a:ext cx="1080" cy="4708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arrow" w="med"/>
            <a:tailEnd len="med" type="arrow" w="med"/>
          </a:ln>
        </p:spPr>
      </p:cxnSp>
      <p:sp>
        <p:nvSpPr>
          <p:cNvPr id="132" name="TextBox 56"/>
          <p:cNvSpPr/>
          <p:nvPr/>
        </p:nvSpPr>
        <p:spPr>
          <a:xfrm>
            <a:off x="406440" y="2946240"/>
            <a:ext cx="32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о порядку санкцион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авая фигурная скобка 19"/>
          <p:cNvSpPr/>
          <p:nvPr/>
        </p:nvSpPr>
        <p:spPr>
          <a:xfrm rot="5400000">
            <a:off x="1095480" y="3243240"/>
            <a:ext cx="279360" cy="2000160"/>
          </a:xfrm>
          <a:custGeom>
            <a:avLst/>
            <a:gdLst>
              <a:gd name="textAreaLeft" fmla="*/ 0 w 279360"/>
              <a:gd name="textAreaRight" fmla="*/ 100800 w 27936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511200" y="4322880"/>
            <a:ext cx="262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-основание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ставляется. В Разделе2 ЗКР графа «вид» значение «ДО» далее по графам № и дата поставленного на учет Д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6130800" y="3394440"/>
            <a:ext cx="873360" cy="3373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61"/>
          <p:cNvSpPr/>
          <p:nvPr/>
        </p:nvSpPr>
        <p:spPr>
          <a:xfrm>
            <a:off x="7062480" y="33764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7367760" y="3287880"/>
            <a:ext cx="1495080" cy="520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-осн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Прямая со стрелкой 63"/>
          <p:cNvCxnSpPr/>
          <p:nvPr/>
        </p:nvCxnSpPr>
        <p:spPr>
          <a:xfrm>
            <a:off x="6349680" y="2906280"/>
            <a:ext cx="1080" cy="47052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arrow" w="med"/>
            <a:tailEnd len="med" type="arrow" w="med"/>
          </a:ln>
        </p:spPr>
      </p:cxnSp>
      <p:sp>
        <p:nvSpPr>
          <p:cNvPr id="139" name="TextBox 64"/>
          <p:cNvSpPr/>
          <p:nvPr/>
        </p:nvSpPr>
        <p:spPr>
          <a:xfrm>
            <a:off x="5812560" y="300348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о порядку санкцион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5"/>
          <p:cNvSpPr/>
          <p:nvPr/>
        </p:nvSpPr>
        <p:spPr>
          <a:xfrm>
            <a:off x="174600" y="3699000"/>
            <a:ext cx="232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бо 1 ЗКР, платеж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торой планируется позж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Прямая со стрелкой 4"/>
          <p:cNvCxnSpPr/>
          <p:nvPr/>
        </p:nvCxnSpPr>
        <p:spPr>
          <a:xfrm>
            <a:off x="3700080" y="2945880"/>
            <a:ext cx="1080" cy="2202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Прямая со стрелкой 6"/>
          <p:cNvCxnSpPr/>
          <p:nvPr/>
        </p:nvCxnSpPr>
        <p:spPr>
          <a:xfrm>
            <a:off x="7578360" y="3773160"/>
            <a:ext cx="1080" cy="13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TextBox 17"/>
          <p:cNvSpPr/>
          <p:nvPr/>
        </p:nvSpPr>
        <p:spPr>
          <a:xfrm>
            <a:off x="2114640" y="3198960"/>
            <a:ext cx="167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т.ч.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дтвер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тавки товаров, работ, услуг по ранее произведен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ансовым платеж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755640" y="582480"/>
            <a:ext cx="822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юджетных и денежных обязательств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250920" y="938160"/>
            <a:ext cx="84978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хема 1" descr=""/>
          <p:cNvPicPr/>
          <p:nvPr/>
        </p:nvPicPr>
        <p:blipFill>
          <a:blip r:embed="rId1"/>
          <a:stretch/>
        </p:blipFill>
        <p:spPr>
          <a:xfrm>
            <a:off x="969840" y="109440"/>
            <a:ext cx="7753320" cy="708120"/>
          </a:xfrm>
          <a:prstGeom prst="rect">
            <a:avLst/>
          </a:prstGeom>
          <a:ln w="0">
            <a:noFill/>
          </a:ln>
        </p:spPr>
      </p:pic>
      <p:pic>
        <p:nvPicPr>
          <p:cNvPr id="148" name="Схема 2" descr=""/>
          <p:cNvPicPr/>
          <p:nvPr/>
        </p:nvPicPr>
        <p:blipFill>
          <a:blip r:embed="rId2"/>
          <a:stretch/>
        </p:blipFill>
        <p:spPr>
          <a:xfrm>
            <a:off x="225360" y="907920"/>
            <a:ext cx="8461440" cy="2463840"/>
          </a:xfrm>
          <a:prstGeom prst="rect">
            <a:avLst/>
          </a:prstGeom>
          <a:ln w="0">
            <a:noFill/>
          </a:ln>
        </p:spPr>
      </p:pic>
      <p:pic>
        <p:nvPicPr>
          <p:cNvPr id="149" name="Схема 5" descr=""/>
          <p:cNvPicPr/>
          <p:nvPr/>
        </p:nvPicPr>
        <p:blipFill>
          <a:blip r:embed="rId3"/>
          <a:stretch/>
        </p:blipFill>
        <p:spPr>
          <a:xfrm>
            <a:off x="1163520" y="3529080"/>
            <a:ext cx="77425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1687680" y="712800"/>
            <a:ext cx="6419520" cy="70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 Light"/>
              </a:rPr>
              <a:t>Два типа автоматически сформированного доку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 Light"/>
              </a:rPr>
              <a:t>«Сведения о денежном обязательстве» (АвтоД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8"/>
          <p:cNvSpPr/>
          <p:nvPr/>
        </p:nvSpPr>
        <p:spPr>
          <a:xfrm>
            <a:off x="5270400" y="1658880"/>
            <a:ext cx="3189240" cy="12542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явка на кассовый расход/Сокращенная заявка на кассовый ра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1001880" y="2395440"/>
            <a:ext cx="2358720" cy="6224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явка на получение денежных средств, перечисляемых на ка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10"/>
          <p:cNvSpPr/>
          <p:nvPr/>
        </p:nvSpPr>
        <p:spPr>
          <a:xfrm>
            <a:off x="1847880" y="1420920"/>
            <a:ext cx="2043000" cy="9842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явка на получение наличных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1"/>
          <p:cNvSpPr/>
          <p:nvPr/>
        </p:nvSpPr>
        <p:spPr>
          <a:xfrm>
            <a:off x="569880" y="3092400"/>
            <a:ext cx="2870280" cy="1839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3152"/>
                </a:solidFill>
                <a:latin typeface="Calibri"/>
              </a:rPr>
              <a:t>1. Если заявка предоставлена по ранее учтенному БО (т.е. заполнен реквизит «Учетный номер БО») - осуществляется формирование документа «Сведения о денежном обязательстве» с присвоением ему системного типа 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«СДО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12"/>
          <p:cNvSpPr/>
          <p:nvPr/>
        </p:nvSpPr>
        <p:spPr>
          <a:xfrm>
            <a:off x="495360" y="4978440"/>
            <a:ext cx="2905200" cy="15904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2. Если в заявке не заполнен номер БО в реквизите «Учетный номер БО», то осуществляется формирование документов «Сведение о бюджетном обязательстве» с присвоением ему системного типа «ОБП» и «Сведения о денежном обязательстве» с присвоением ему системного типа 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«СДП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3"/>
          <p:cNvSpPr/>
          <p:nvPr/>
        </p:nvSpPr>
        <p:spPr>
          <a:xfrm>
            <a:off x="3581280" y="5067360"/>
            <a:ext cx="5388120" cy="1412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2. Если в ЗКР в реквизите «Учетный номер БО» не указано значение учетного номера БО и в разделе 2 «Реквизиты документа основания» в графе «Вид» указано значение, отличное от «ДО» (т.е. в ЗКР в реквизите «Номер» разделе 2 «Реквизиты документа основания» не указан номер ДО), осуществляется автоматическое формирование документа «Сведение о денежном обязательстве» с присвоением системного тип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ДП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14"/>
          <p:cNvSpPr/>
          <p:nvPr/>
        </p:nvSpPr>
        <p:spPr>
          <a:xfrm>
            <a:off x="3581280" y="3102120"/>
            <a:ext cx="5388120" cy="1838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3152"/>
                </a:solidFill>
                <a:latin typeface="Calibri"/>
              </a:rPr>
              <a:t>1. Если в ЗКР в реквизите «Учетный номер БО» указано значение учетного номера БО и в  Разделе 2 «Реквизиты документа основания» в графе «Вид» указано значение, отличное от «ДО» (т.е. в ЗКР в реквизите «Номер» разделе 2 «Реквизиты документа основания» не указан номер ДО), осуществляется автоматическое формирование документа «Сведение о денежном обязательстве» с присвоением системного типа </a:t>
            </a:r>
            <a:r>
              <a:rPr b="0" lang="ru-RU" sz="1800" spc="-1" strike="noStrike">
                <a:solidFill>
                  <a:srgbClr val="403152"/>
                </a:solidFill>
                <a:latin typeface="Calibri"/>
              </a:rPr>
              <a:t>«СДО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466560" y="1420920"/>
            <a:ext cx="1357560" cy="981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водная заявка на кассовый ра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Выгнутая влево стрелка 16"/>
          <p:cNvSpPr/>
          <p:nvPr/>
        </p:nvSpPr>
        <p:spPr>
          <a:xfrm>
            <a:off x="165240" y="1700280"/>
            <a:ext cx="301320" cy="1171440"/>
          </a:xfrm>
          <a:custGeom>
            <a:avLst/>
            <a:gdLst>
              <a:gd name="textAreaLeft" fmla="*/ 40320 w 301320"/>
              <a:gd name="textAreaRight" fmla="*/ 261000 w 301320"/>
              <a:gd name="textAreaTop" fmla="*/ 264600 h 1171440"/>
              <a:gd name="textAreaBottom" fmla="*/ 869400 h 117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8" stAng="-5400000" swAng="-5400000"/>
                <a:lnTo>
                  <a:pt x="0" y="11148"/>
                </a:lnTo>
                <a:arcTo wR="21600" hR="9758" stAng="10800000" swAng="-1930186"/>
                <a:lnTo>
                  <a:pt x="9000" y="19768"/>
                </a:lnTo>
                <a:lnTo>
                  <a:pt x="21600" y="20210"/>
                </a:lnTo>
                <a:lnTo>
                  <a:pt x="9000" y="16988"/>
                </a:lnTo>
                <a:lnTo>
                  <a:pt x="9000" y="17683"/>
                </a:lnTo>
                <a:arcTo wR="21600" hR="9758" stAng="8869814" swAng="1819330"/>
                <a:lnTo>
                  <a:pt x="55" y="10453"/>
                </a:lnTo>
                <a:arcTo wR="21600" hR="9758" stAng="-10689144" swAng="5289144"/>
                <a:close/>
              </a:path>
              <a:path fill="darkenLess" w="21600" h="21600">
                <a:moveTo>
                  <a:pt x="21600" y="0"/>
                </a:moveTo>
                <a:arcTo wR="21600" hR="9758" stAng="-5400000" swAng="-5400000"/>
                <a:lnTo>
                  <a:pt x="0" y="9758"/>
                </a:lnTo>
                <a:arcTo wR="21600" hR="9758" stAng="10800000" swAng="-110856"/>
                <a:lnTo>
                  <a:pt x="55" y="10453"/>
                </a:lnTo>
                <a:arcTo wR="21600" hR="9758" stAng="-10689144" swAng="5289144"/>
                <a:close/>
              </a:path>
            </a:pathLst>
          </a:custGeom>
          <a:solidFill>
            <a:srgbClr val="4330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Выгнутая вправо стрелка 17"/>
          <p:cNvSpPr/>
          <p:nvPr/>
        </p:nvSpPr>
        <p:spPr>
          <a:xfrm>
            <a:off x="3890880" y="1700280"/>
            <a:ext cx="351000" cy="1171440"/>
          </a:xfrm>
          <a:custGeom>
            <a:avLst/>
            <a:gdLst>
              <a:gd name="textAreaLeft" fmla="*/ 46800 w 351000"/>
              <a:gd name="textAreaRight" fmla="*/ 304200 w 351000"/>
              <a:gd name="textAreaTop" fmla="*/ 259920 h 1171440"/>
              <a:gd name="textAreaBottom" fmla="*/ 867600 h 11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87" stAng="-5400000" swAng="5400000"/>
                <a:lnTo>
                  <a:pt x="21600" y="11205"/>
                </a:lnTo>
                <a:arcTo wR="21600" hR="9587" stAng="0" swAng="2098659"/>
                <a:lnTo>
                  <a:pt x="11571" y="20108"/>
                </a:lnTo>
                <a:lnTo>
                  <a:pt x="0" y="19983"/>
                </a:lnTo>
                <a:lnTo>
                  <a:pt x="11571" y="16874"/>
                </a:lnTo>
                <a:lnTo>
                  <a:pt x="11571" y="17682"/>
                </a:lnTo>
                <a:arcTo wR="21600" hR="9587" stAng="2098659" swAng="-1969503"/>
                <a:lnTo>
                  <a:pt x="21523" y="10396"/>
                </a:lnTo>
                <a:arcTo wR="21600" hR="9587" stAng="-129156" swAng="-5270844"/>
                <a:close/>
              </a:path>
              <a:path fill="darkenLess" w="21600" h="21600">
                <a:moveTo>
                  <a:pt x="0" y="0"/>
                </a:moveTo>
                <a:arcTo wR="21600" hR="9587" stAng="-5400000" swAng="5400000"/>
                <a:lnTo>
                  <a:pt x="21600" y="11205"/>
                </a:lnTo>
                <a:arcTo wR="21600" hR="9587" stAng="0" swAng="-129156"/>
                <a:lnTo>
                  <a:pt x="21523" y="10396"/>
                </a:lnTo>
                <a:arcTo wR="21600" hR="9587" stAng="-129156" swAng="-5270844"/>
                <a:close/>
              </a:path>
            </a:pathLst>
          </a:custGeom>
          <a:solidFill>
            <a:srgbClr val="4330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004840" y="2967120"/>
            <a:ext cx="176400" cy="269640"/>
          </a:xfrm>
          <a:prstGeom prst="downArrow">
            <a:avLst>
              <a:gd name="adj1" fmla="val 50000"/>
              <a:gd name="adj2" fmla="val 49905"/>
            </a:avLst>
          </a:prstGeom>
          <a:solidFill>
            <a:srgbClr val="4330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73440" bIns="7344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трелка вниз 19"/>
          <p:cNvSpPr/>
          <p:nvPr/>
        </p:nvSpPr>
        <p:spPr>
          <a:xfrm>
            <a:off x="6188040" y="2884320"/>
            <a:ext cx="176400" cy="26676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43304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70560" bIns="7056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44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ок учета  денежных обязатель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4880" y="1420560"/>
            <a:ext cx="852156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660-8A52-4AF5-BF77-FADA5B2D2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Скругленный прямоугольник 43"/>
          <p:cNvSpPr/>
          <p:nvPr/>
        </p:nvSpPr>
        <p:spPr>
          <a:xfrm>
            <a:off x="3373560" y="1974960"/>
            <a:ext cx="1290600" cy="1199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1"/>
          <p:cNvSpPr/>
          <p:nvPr/>
        </p:nvSpPr>
        <p:spPr>
          <a:xfrm>
            <a:off x="3373560" y="1963800"/>
            <a:ext cx="129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D0CB-A1A2-43E9-90DC-77251D9F5F6C}" type="slidenum">
              <a:rPr b="0" lang="ru-RU" sz="1200" spc="-1" strike="noStrike">
                <a:solidFill>
                  <a:srgbClr val="f2f2f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1289160" y="2386080"/>
            <a:ext cx="1268280" cy="120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293840" y="2390760"/>
            <a:ext cx="124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КОНТРАКТ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ГОВОР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1316160" y="313056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5"/>
          <p:cNvSpPr/>
          <p:nvPr/>
        </p:nvSpPr>
        <p:spPr>
          <a:xfrm>
            <a:off x="3373560" y="2917800"/>
            <a:ext cx="12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46"/>
          <p:cNvSpPr/>
          <p:nvPr/>
        </p:nvSpPr>
        <p:spPr>
          <a:xfrm>
            <a:off x="3373560" y="1168560"/>
            <a:ext cx="1277640" cy="7920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7"/>
          <p:cNvSpPr/>
          <p:nvPr/>
        </p:nvSpPr>
        <p:spPr>
          <a:xfrm>
            <a:off x="3373560" y="1155600"/>
            <a:ext cx="127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8"/>
          <p:cNvSpPr/>
          <p:nvPr/>
        </p:nvSpPr>
        <p:spPr>
          <a:xfrm>
            <a:off x="3373560" y="152712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2"/>
          <p:cNvSpPr/>
          <p:nvPr/>
        </p:nvSpPr>
        <p:spPr>
          <a:xfrm>
            <a:off x="3365640" y="1168560"/>
            <a:ext cx="1298520" cy="20062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92"/>
          <p:cNvSpPr/>
          <p:nvPr/>
        </p:nvSpPr>
        <p:spPr>
          <a:xfrm>
            <a:off x="3365640" y="739800"/>
            <a:ext cx="47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– формирование ТОФК Авто Д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ая соединительная линия 14"/>
          <p:cNvSpPr/>
          <p:nvPr/>
        </p:nvSpPr>
        <p:spPr>
          <a:xfrm>
            <a:off x="2813040" y="1041480"/>
            <a:ext cx="7920" cy="5378400"/>
          </a:xfrm>
          <a:prstGeom prst="line">
            <a:avLst/>
          </a:prstGeom>
          <a:ln w="507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35"/>
          <p:cNvSpPr/>
          <p:nvPr/>
        </p:nvSpPr>
        <p:spPr>
          <a:xfrm>
            <a:off x="1303200" y="4092480"/>
            <a:ext cx="124776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Б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Прямая со стрелкой 36"/>
          <p:cNvCxnSpPr>
            <a:stCxn id="169" idx="2"/>
            <a:endCxn id="179" idx="0"/>
          </p:cNvCxnSpPr>
          <p:nvPr/>
        </p:nvCxnSpPr>
        <p:spPr>
          <a:xfrm>
            <a:off x="1922040" y="3586320"/>
            <a:ext cx="3960" cy="506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81" name="TextBox 99"/>
          <p:cNvSpPr/>
          <p:nvPr/>
        </p:nvSpPr>
        <p:spPr>
          <a:xfrm>
            <a:off x="3365640" y="3421080"/>
            <a:ext cx="35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 – Сведения о ДО формирует Клиен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кругленный прямоугольник 69"/>
          <p:cNvSpPr/>
          <p:nvPr/>
        </p:nvSpPr>
        <p:spPr>
          <a:xfrm>
            <a:off x="3365640" y="4697280"/>
            <a:ext cx="1290600" cy="120024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11"/>
          <p:cNvSpPr/>
          <p:nvPr/>
        </p:nvSpPr>
        <p:spPr>
          <a:xfrm>
            <a:off x="3276720" y="4686480"/>
            <a:ext cx="143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3365640" y="5442120"/>
            <a:ext cx="12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72"/>
          <p:cNvSpPr/>
          <p:nvPr/>
        </p:nvSpPr>
        <p:spPr>
          <a:xfrm>
            <a:off x="3365640" y="4105440"/>
            <a:ext cx="1290600" cy="17920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Скругленный прямоугольник 73"/>
          <p:cNvSpPr/>
          <p:nvPr/>
        </p:nvSpPr>
        <p:spPr>
          <a:xfrm>
            <a:off x="5464080" y="3781440"/>
            <a:ext cx="905040" cy="1200240"/>
          </a:xfrm>
          <a:custGeom>
            <a:avLst/>
            <a:gdLst>
              <a:gd name="textAreaLeft" fmla="*/ 43920 w 905040"/>
              <a:gd name="textAreaRight" fmla="*/ 861120 w 90504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43">
                <a:moveTo>
                  <a:pt x="3600" y="0"/>
                </a:moveTo>
                <a:arcTo wR="3600" hR="3600" stAng="16200000" swAng="-5400000"/>
                <a:lnTo>
                  <a:pt x="0" y="25043"/>
                </a:lnTo>
                <a:arcTo wR="3600" hR="3600" stAng="10800000" swAng="-5400000"/>
                <a:lnTo>
                  <a:pt x="18000" y="28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7"/>
          <p:cNvSpPr/>
          <p:nvPr/>
        </p:nvSpPr>
        <p:spPr>
          <a:xfrm>
            <a:off x="5464080" y="390852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8"/>
          <p:cNvSpPr/>
          <p:nvPr/>
        </p:nvSpPr>
        <p:spPr>
          <a:xfrm>
            <a:off x="5464080" y="452592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5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76"/>
          <p:cNvSpPr/>
          <p:nvPr/>
        </p:nvSpPr>
        <p:spPr>
          <a:xfrm>
            <a:off x="5460840" y="5029200"/>
            <a:ext cx="905040" cy="1200240"/>
          </a:xfrm>
          <a:custGeom>
            <a:avLst/>
            <a:gdLst>
              <a:gd name="textAreaLeft" fmla="*/ 43920 w 905040"/>
              <a:gd name="textAreaRight" fmla="*/ 861120 w 90504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43">
                <a:moveTo>
                  <a:pt x="3600" y="0"/>
                </a:moveTo>
                <a:arcTo wR="3600" hR="3600" stAng="16200000" swAng="-5400000"/>
                <a:lnTo>
                  <a:pt x="0" y="25043"/>
                </a:lnTo>
                <a:arcTo wR="3600" hR="3600" stAng="10800000" swAng="-5400000"/>
                <a:lnTo>
                  <a:pt x="18000" y="28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7"/>
          <p:cNvSpPr/>
          <p:nvPr/>
        </p:nvSpPr>
        <p:spPr>
          <a:xfrm>
            <a:off x="5460840" y="515448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8"/>
          <p:cNvSpPr/>
          <p:nvPr/>
        </p:nvSpPr>
        <p:spPr>
          <a:xfrm>
            <a:off x="5460840" y="5773680"/>
            <a:ext cx="9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5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Прямая со стрелкой 52"/>
          <p:cNvCxnSpPr>
            <a:stCxn id="185" idx="3"/>
            <a:endCxn id="186" idx="1"/>
          </p:cNvCxnSpPr>
          <p:nvPr/>
        </p:nvCxnSpPr>
        <p:spPr>
          <a:xfrm flipV="1">
            <a:off x="4656240" y="4381560"/>
            <a:ext cx="808560" cy="621000"/>
          </a:xfrm>
          <a:prstGeom prst="bentConnector3">
            <a:avLst>
              <a:gd name="adj1" fmla="val 4997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93" name="Прямая со стрелкой 52"/>
          <p:cNvCxnSpPr>
            <a:stCxn id="185" idx="3"/>
            <a:endCxn id="189" idx="1"/>
          </p:cNvCxnSpPr>
          <p:nvPr/>
        </p:nvCxnSpPr>
        <p:spPr>
          <a:xfrm>
            <a:off x="4655880" y="5002200"/>
            <a:ext cx="805320" cy="627840"/>
          </a:xfrm>
          <a:prstGeom prst="bentConnector3">
            <a:avLst>
              <a:gd name="adj1" fmla="val 50000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94" name="Прямая соединительная линия 82"/>
          <p:cNvSpPr/>
          <p:nvPr/>
        </p:nvSpPr>
        <p:spPr>
          <a:xfrm flipV="1">
            <a:off x="2795760" y="3421080"/>
            <a:ext cx="4800600" cy="3024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кругленный прямоугольник 86"/>
          <p:cNvSpPr/>
          <p:nvPr/>
        </p:nvSpPr>
        <p:spPr>
          <a:xfrm>
            <a:off x="3373560" y="4108320"/>
            <a:ext cx="128268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80"/>
          <p:cNvSpPr/>
          <p:nvPr/>
        </p:nvSpPr>
        <p:spPr>
          <a:xfrm>
            <a:off x="5403960" y="2027160"/>
            <a:ext cx="78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хема 5" descr=""/>
          <p:cNvPicPr/>
          <p:nvPr/>
        </p:nvPicPr>
        <p:blipFill>
          <a:blip r:embed="rId1"/>
          <a:stretch/>
        </p:blipFill>
        <p:spPr>
          <a:xfrm>
            <a:off x="1463760" y="201600"/>
            <a:ext cx="6448320" cy="554040"/>
          </a:xfrm>
          <a:prstGeom prst="rect">
            <a:avLst/>
          </a:prstGeom>
          <a:ln w="0">
            <a:noFill/>
          </a:ln>
        </p:spPr>
      </p:pic>
      <p:cxnSp>
        <p:nvCxnSpPr>
          <p:cNvPr id="198" name="Прямая со стрелкой 38"/>
          <p:cNvCxnSpPr>
            <a:stCxn id="176" idx="3"/>
            <a:endCxn id="196" idx="1"/>
          </p:cNvCxnSpPr>
          <p:nvPr/>
        </p:nvCxnSpPr>
        <p:spPr>
          <a:xfrm>
            <a:off x="4663800" y="2171880"/>
            <a:ext cx="740520" cy="118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кругленный прямоугольник 117"/>
          <p:cNvSpPr/>
          <p:nvPr/>
        </p:nvSpPr>
        <p:spPr>
          <a:xfrm>
            <a:off x="1512720" y="1042920"/>
            <a:ext cx="1293840" cy="5032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7"/>
          <p:cNvSpPr/>
          <p:nvPr/>
        </p:nvSpPr>
        <p:spPr>
          <a:xfrm>
            <a:off x="1512720" y="104148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4"/>
          <p:cNvSpPr/>
          <p:nvPr/>
        </p:nvSpPr>
        <p:spPr>
          <a:xfrm>
            <a:off x="1479600" y="773280"/>
            <a:ext cx="490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– формирование ТОФК  Авто ДО (без уплаты аванс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80"/>
          <p:cNvSpPr/>
          <p:nvPr/>
        </p:nvSpPr>
        <p:spPr>
          <a:xfrm>
            <a:off x="2876400" y="3443400"/>
            <a:ext cx="7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96"/>
          <p:cNvSpPr/>
          <p:nvPr/>
        </p:nvSpPr>
        <p:spPr>
          <a:xfrm>
            <a:off x="22320" y="2478240"/>
            <a:ext cx="1270080" cy="1199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8440" y="2482920"/>
            <a:ext cx="124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КОНТРАКТ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ГОВОР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2"/>
          <p:cNvSpPr/>
          <p:nvPr/>
        </p:nvSpPr>
        <p:spPr>
          <a:xfrm>
            <a:off x="50760" y="3222720"/>
            <a:ext cx="124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,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аванс 3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кругленный прямоугольник 100"/>
          <p:cNvSpPr/>
          <p:nvPr/>
        </p:nvSpPr>
        <p:spPr>
          <a:xfrm>
            <a:off x="36360" y="4184640"/>
            <a:ext cx="124776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Б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Прямая со стрелкой 102"/>
          <p:cNvCxnSpPr>
            <a:stCxn id="203" idx="2"/>
            <a:endCxn id="206" idx="0"/>
          </p:cNvCxnSpPr>
          <p:nvPr/>
        </p:nvCxnSpPr>
        <p:spPr>
          <a:xfrm>
            <a:off x="657360" y="3677760"/>
            <a:ext cx="3600" cy="506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08" name="Прямая соединительная линия 107"/>
          <p:cNvSpPr/>
          <p:nvPr/>
        </p:nvSpPr>
        <p:spPr>
          <a:xfrm>
            <a:off x="1355760" y="1219320"/>
            <a:ext cx="7920" cy="5378400"/>
          </a:xfrm>
          <a:prstGeom prst="line">
            <a:avLst/>
          </a:prstGeom>
          <a:ln w="507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2"/>
          <p:cNvSpPr/>
          <p:nvPr/>
        </p:nvSpPr>
        <p:spPr>
          <a:xfrm>
            <a:off x="1479600" y="2498760"/>
            <a:ext cx="741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 – ТОФК формирует Авто ДО на сумму аванса, Клиент формирует Сведения о ДО на оставшуюся сум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110"/>
          <p:cNvSpPr/>
          <p:nvPr/>
        </p:nvSpPr>
        <p:spPr>
          <a:xfrm>
            <a:off x="1512720" y="1549440"/>
            <a:ext cx="1290960" cy="887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11"/>
          <p:cNvSpPr/>
          <p:nvPr/>
        </p:nvSpPr>
        <p:spPr>
          <a:xfrm>
            <a:off x="1512720" y="1549440"/>
            <a:ext cx="129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5"/>
          <p:cNvSpPr/>
          <p:nvPr/>
        </p:nvSpPr>
        <p:spPr>
          <a:xfrm>
            <a:off x="1512720" y="2189160"/>
            <a:ext cx="12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16"/>
          <p:cNvSpPr/>
          <p:nvPr/>
        </p:nvSpPr>
        <p:spPr>
          <a:xfrm>
            <a:off x="1512720" y="1030320"/>
            <a:ext cx="1290960" cy="1396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1506600" y="130824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121"/>
          <p:cNvSpPr/>
          <p:nvPr/>
        </p:nvSpPr>
        <p:spPr>
          <a:xfrm>
            <a:off x="4087800" y="3236760"/>
            <a:ext cx="1235160" cy="120024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11"/>
          <p:cNvSpPr/>
          <p:nvPr/>
        </p:nvSpPr>
        <p:spPr>
          <a:xfrm>
            <a:off x="4087800" y="322596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5"/>
          <p:cNvSpPr/>
          <p:nvPr/>
        </p:nvSpPr>
        <p:spPr>
          <a:xfrm>
            <a:off x="4089240" y="3865680"/>
            <a:ext cx="1227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, в том числе аванс 3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 к оплате: 7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124"/>
          <p:cNvSpPr/>
          <p:nvPr/>
        </p:nvSpPr>
        <p:spPr>
          <a:xfrm>
            <a:off x="5851440" y="2998800"/>
            <a:ext cx="905040" cy="1200240"/>
          </a:xfrm>
          <a:custGeom>
            <a:avLst/>
            <a:gdLst>
              <a:gd name="textAreaLeft" fmla="*/ 43920 w 905040"/>
              <a:gd name="textAreaRight" fmla="*/ 861120 w 90504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43">
                <a:moveTo>
                  <a:pt x="3600" y="0"/>
                </a:moveTo>
                <a:arcTo wR="3600" hR="3600" stAng="16200000" swAng="-5400000"/>
                <a:lnTo>
                  <a:pt x="0" y="25043"/>
                </a:lnTo>
                <a:arcTo wR="3600" hR="3600" stAng="10800000" swAng="-5400000"/>
                <a:lnTo>
                  <a:pt x="18000" y="28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5851440" y="312588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48"/>
          <p:cNvSpPr/>
          <p:nvPr/>
        </p:nvSpPr>
        <p:spPr>
          <a:xfrm>
            <a:off x="5851440" y="3743280"/>
            <a:ext cx="9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7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127"/>
          <p:cNvSpPr/>
          <p:nvPr/>
        </p:nvSpPr>
        <p:spPr>
          <a:xfrm>
            <a:off x="4087800" y="2770200"/>
            <a:ext cx="1235160" cy="1666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Прямая со стрелкой 128"/>
          <p:cNvCxnSpPr>
            <a:stCxn id="221" idx="3"/>
            <a:endCxn id="218" idx="1"/>
          </p:cNvCxnSpPr>
          <p:nvPr/>
        </p:nvCxnSpPr>
        <p:spPr>
          <a:xfrm flipV="1">
            <a:off x="5322960" y="3598200"/>
            <a:ext cx="529200" cy="54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23" name="Скругленный прямоугольник 129"/>
          <p:cNvSpPr/>
          <p:nvPr/>
        </p:nvSpPr>
        <p:spPr>
          <a:xfrm>
            <a:off x="1552680" y="3003480"/>
            <a:ext cx="904680" cy="1200240"/>
          </a:xfrm>
          <a:custGeom>
            <a:avLst/>
            <a:gdLst>
              <a:gd name="textAreaLeft" fmla="*/ 43920 w 904680"/>
              <a:gd name="textAreaRight" fmla="*/ 860760 w 90468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7"/>
          <p:cNvSpPr/>
          <p:nvPr/>
        </p:nvSpPr>
        <p:spPr>
          <a:xfrm>
            <a:off x="1552680" y="312912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8"/>
          <p:cNvSpPr/>
          <p:nvPr/>
        </p:nvSpPr>
        <p:spPr>
          <a:xfrm>
            <a:off x="1552680" y="374796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30 руб. (аванс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80"/>
          <p:cNvSpPr/>
          <p:nvPr/>
        </p:nvSpPr>
        <p:spPr>
          <a:xfrm>
            <a:off x="3316320" y="1574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кругленный прямоугольник 135"/>
          <p:cNvSpPr/>
          <p:nvPr/>
        </p:nvSpPr>
        <p:spPr>
          <a:xfrm>
            <a:off x="4089240" y="2779560"/>
            <a:ext cx="1227240" cy="436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ая соединительная линия 169"/>
          <p:cNvSpPr/>
          <p:nvPr/>
        </p:nvSpPr>
        <p:spPr>
          <a:xfrm flipV="1">
            <a:off x="1355760" y="2466720"/>
            <a:ext cx="7561080" cy="2844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81"/>
          <p:cNvSpPr/>
          <p:nvPr/>
        </p:nvSpPr>
        <p:spPr>
          <a:xfrm>
            <a:off x="1479600" y="4546440"/>
            <a:ext cx="731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 – Клиент формирует Сведения о ДО отдельно на сумму аванса и на оставшуюся сум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173"/>
          <p:cNvSpPr/>
          <p:nvPr/>
        </p:nvSpPr>
        <p:spPr>
          <a:xfrm>
            <a:off x="1479600" y="5392800"/>
            <a:ext cx="122724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30 руб. (ав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Скругленный прямоугольник 174"/>
          <p:cNvSpPr/>
          <p:nvPr/>
        </p:nvSpPr>
        <p:spPr>
          <a:xfrm>
            <a:off x="2982960" y="5853240"/>
            <a:ext cx="904680" cy="5252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47"/>
          <p:cNvSpPr/>
          <p:nvPr/>
        </p:nvSpPr>
        <p:spPr>
          <a:xfrm>
            <a:off x="2982960" y="58546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48"/>
          <p:cNvSpPr/>
          <p:nvPr/>
        </p:nvSpPr>
        <p:spPr>
          <a:xfrm>
            <a:off x="2984400" y="612144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2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Прямая со стрелкой 158"/>
          <p:cNvCxnSpPr>
            <a:stCxn id="230" idx="3"/>
            <a:endCxn id="231" idx="1"/>
          </p:cNvCxnSpPr>
          <p:nvPr/>
        </p:nvCxnSpPr>
        <p:spPr>
          <a:xfrm>
            <a:off x="2706480" y="5692680"/>
            <a:ext cx="276840" cy="424800"/>
          </a:xfrm>
          <a:prstGeom prst="bentConnector3">
            <a:avLst>
              <a:gd name="adj1" fmla="val 50000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35" name="Скругленный прямоугольник 180"/>
          <p:cNvSpPr/>
          <p:nvPr/>
        </p:nvSpPr>
        <p:spPr>
          <a:xfrm>
            <a:off x="2973240" y="5057640"/>
            <a:ext cx="905040" cy="52416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2973240" y="505764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2973240" y="533556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Прямая со стрелкой 163"/>
          <p:cNvCxnSpPr>
            <a:stCxn id="230" idx="3"/>
            <a:endCxn id="235" idx="1"/>
          </p:cNvCxnSpPr>
          <p:nvPr/>
        </p:nvCxnSpPr>
        <p:spPr>
          <a:xfrm flipV="1">
            <a:off x="2708280" y="5319360"/>
            <a:ext cx="265680" cy="373680"/>
          </a:xfrm>
          <a:prstGeom prst="bentConnector3">
            <a:avLst>
              <a:gd name="adj1" fmla="val 49932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39" name="Скругленный прямоугольник 184"/>
          <p:cNvSpPr/>
          <p:nvPr/>
        </p:nvSpPr>
        <p:spPr>
          <a:xfrm>
            <a:off x="4181400" y="5346720"/>
            <a:ext cx="1235160" cy="120024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1"/>
          <p:cNvSpPr/>
          <p:nvPr/>
        </p:nvSpPr>
        <p:spPr>
          <a:xfrm>
            <a:off x="4181400" y="533556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4181400" y="5975280"/>
            <a:ext cx="1227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, в том числе аванс 3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 к оплате: 7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187"/>
          <p:cNvSpPr/>
          <p:nvPr/>
        </p:nvSpPr>
        <p:spPr>
          <a:xfrm>
            <a:off x="4181400" y="4905360"/>
            <a:ext cx="1235160" cy="16416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Скругленный прямоугольник 188"/>
          <p:cNvSpPr/>
          <p:nvPr/>
        </p:nvSpPr>
        <p:spPr>
          <a:xfrm>
            <a:off x="4181400" y="4905360"/>
            <a:ext cx="1227240" cy="4316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189"/>
          <p:cNvSpPr/>
          <p:nvPr/>
        </p:nvSpPr>
        <p:spPr>
          <a:xfrm flipV="1">
            <a:off x="5545080" y="5535360"/>
            <a:ext cx="3267000" cy="2988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Скругленный прямоугольник 190"/>
          <p:cNvSpPr/>
          <p:nvPr/>
        </p:nvSpPr>
        <p:spPr>
          <a:xfrm>
            <a:off x="5675400" y="4888080"/>
            <a:ext cx="904680" cy="52524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7"/>
          <p:cNvSpPr/>
          <p:nvPr/>
        </p:nvSpPr>
        <p:spPr>
          <a:xfrm>
            <a:off x="5675400" y="49100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8"/>
          <p:cNvSpPr/>
          <p:nvPr/>
        </p:nvSpPr>
        <p:spPr>
          <a:xfrm>
            <a:off x="5673600" y="515160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7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Прямая со стрелкой 163"/>
          <p:cNvCxnSpPr>
            <a:stCxn id="242" idx="3"/>
            <a:endCxn id="245" idx="1"/>
          </p:cNvCxnSpPr>
          <p:nvPr/>
        </p:nvCxnSpPr>
        <p:spPr>
          <a:xfrm flipV="1">
            <a:off x="5416200" y="5151240"/>
            <a:ext cx="259560" cy="575280"/>
          </a:xfrm>
          <a:prstGeom prst="bentConnector3">
            <a:avLst>
              <a:gd name="adj1" fmla="val 50000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49" name="Скругленный прямоугольник 195"/>
          <p:cNvSpPr/>
          <p:nvPr/>
        </p:nvSpPr>
        <p:spPr>
          <a:xfrm>
            <a:off x="5680080" y="5665680"/>
            <a:ext cx="905040" cy="5256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7"/>
          <p:cNvSpPr/>
          <p:nvPr/>
        </p:nvSpPr>
        <p:spPr>
          <a:xfrm>
            <a:off x="5680080" y="569592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8"/>
          <p:cNvSpPr/>
          <p:nvPr/>
        </p:nvSpPr>
        <p:spPr>
          <a:xfrm>
            <a:off x="5680080" y="592452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5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200"/>
          <p:cNvSpPr/>
          <p:nvPr/>
        </p:nvSpPr>
        <p:spPr>
          <a:xfrm>
            <a:off x="5678640" y="6253200"/>
            <a:ext cx="904680" cy="5256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5678640" y="62834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5678640" y="652140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2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5" name="Прямая со стрелкой 163"/>
          <p:cNvCxnSpPr>
            <a:stCxn id="242" idx="3"/>
            <a:endCxn id="249" idx="1"/>
          </p:cNvCxnSpPr>
          <p:nvPr/>
        </p:nvCxnSpPr>
        <p:spPr>
          <a:xfrm>
            <a:off x="5416560" y="5726160"/>
            <a:ext cx="264240" cy="202320"/>
          </a:xfrm>
          <a:prstGeom prst="bentConnector3">
            <a:avLst>
              <a:gd name="adj1" fmla="val 49931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56" name="Прямая со стрелкой 163"/>
          <p:cNvCxnSpPr>
            <a:stCxn id="242" idx="3"/>
            <a:endCxn id="252" idx="1"/>
          </p:cNvCxnSpPr>
          <p:nvPr/>
        </p:nvCxnSpPr>
        <p:spPr>
          <a:xfrm>
            <a:off x="5416560" y="5726160"/>
            <a:ext cx="262800" cy="789840"/>
          </a:xfrm>
          <a:prstGeom prst="bentConnector3">
            <a:avLst>
              <a:gd name="adj1" fmla="val 49931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57" name="TextBox 81"/>
          <p:cNvSpPr/>
          <p:nvPr/>
        </p:nvSpPr>
        <p:spPr>
          <a:xfrm>
            <a:off x="6588000" y="4994280"/>
            <a:ext cx="234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.1 – остаток суммы Клиент  оплачивает одной ЗК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81"/>
          <p:cNvSpPr/>
          <p:nvPr/>
        </p:nvSpPr>
        <p:spPr>
          <a:xfrm>
            <a:off x="6588000" y="5626080"/>
            <a:ext cx="24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.2 – остаток сумм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ент оплачивает несколькими ЗК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210"/>
          <p:cNvSpPr/>
          <p:nvPr/>
        </p:nvSpPr>
        <p:spPr>
          <a:xfrm flipV="1">
            <a:off x="1363680" y="4522680"/>
            <a:ext cx="7559640" cy="3024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Схема 1" descr=""/>
          <p:cNvPicPr/>
          <p:nvPr/>
        </p:nvPicPr>
        <p:blipFill>
          <a:blip r:embed="rId1"/>
          <a:stretch/>
        </p:blipFill>
        <p:spPr>
          <a:xfrm>
            <a:off x="1749600" y="36360"/>
            <a:ext cx="6119640" cy="603360"/>
          </a:xfrm>
          <a:prstGeom prst="rect">
            <a:avLst/>
          </a:prstGeom>
          <a:ln w="0">
            <a:noFill/>
          </a:ln>
        </p:spPr>
      </p:pic>
      <p:sp>
        <p:nvSpPr>
          <p:cNvPr id="2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E7D0-176B-4E16-B2C7-036078FF4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Прямая со стрелкой 70"/>
          <p:cNvCxnSpPr>
            <a:stCxn id="213" idx="3"/>
            <a:endCxn id="226" idx="1"/>
          </p:cNvCxnSpPr>
          <p:nvPr/>
        </p:nvCxnSpPr>
        <p:spPr>
          <a:xfrm flipV="1">
            <a:off x="2803680" y="1728000"/>
            <a:ext cx="51336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63" name="Прямая со стрелкой 76"/>
          <p:cNvCxnSpPr>
            <a:stCxn id="223" idx="3"/>
            <a:endCxn id="202" idx="1"/>
          </p:cNvCxnSpPr>
          <p:nvPr/>
        </p:nvCxnSpPr>
        <p:spPr>
          <a:xfrm>
            <a:off x="2457360" y="3603600"/>
            <a:ext cx="419760" cy="102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55"/>
          <p:cNvSpPr/>
          <p:nvPr/>
        </p:nvSpPr>
        <p:spPr>
          <a:xfrm>
            <a:off x="50760" y="1488960"/>
            <a:ext cx="1357200" cy="120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57240" y="1494000"/>
            <a:ext cx="132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КОНТРАКТ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ГОВОР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2"/>
          <p:cNvSpPr/>
          <p:nvPr/>
        </p:nvSpPr>
        <p:spPr>
          <a:xfrm>
            <a:off x="79200" y="2338560"/>
            <a:ext cx="13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кругленный прямоугольник 60"/>
          <p:cNvSpPr/>
          <p:nvPr/>
        </p:nvSpPr>
        <p:spPr>
          <a:xfrm>
            <a:off x="65160" y="2990880"/>
            <a:ext cx="132876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Б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8" name="Прямая со стрелкой 61"/>
          <p:cNvCxnSpPr>
            <a:stCxn id="264" idx="2"/>
            <a:endCxn id="267" idx="0"/>
          </p:cNvCxnSpPr>
          <p:nvPr/>
        </p:nvCxnSpPr>
        <p:spPr>
          <a:xfrm flipH="1">
            <a:off x="729360" y="2689200"/>
            <a:ext cx="1080" cy="3024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69" name="Скругленный прямоугольник 65"/>
          <p:cNvSpPr/>
          <p:nvPr/>
        </p:nvSpPr>
        <p:spPr>
          <a:xfrm>
            <a:off x="66600" y="4116240"/>
            <a:ext cx="1341360" cy="1200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73080" y="4121280"/>
            <a:ext cx="124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КОНТРАКТ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ГОВОР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2"/>
          <p:cNvSpPr/>
          <p:nvPr/>
        </p:nvSpPr>
        <p:spPr>
          <a:xfrm>
            <a:off x="79200" y="4861080"/>
            <a:ext cx="131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,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аванс 100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70"/>
          <p:cNvSpPr/>
          <p:nvPr/>
        </p:nvSpPr>
        <p:spPr>
          <a:xfrm>
            <a:off x="69840" y="5700600"/>
            <a:ext cx="132876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Б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3" name="Прямая со стрелкой 71"/>
          <p:cNvCxnSpPr>
            <a:stCxn id="269" idx="2"/>
            <a:endCxn id="272" idx="0"/>
          </p:cNvCxnSpPr>
          <p:nvPr/>
        </p:nvCxnSpPr>
        <p:spPr>
          <a:xfrm flipH="1">
            <a:off x="734760" y="5316120"/>
            <a:ext cx="2160" cy="384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74" name="Прямая соединительная линия 73"/>
          <p:cNvSpPr/>
          <p:nvPr/>
        </p:nvSpPr>
        <p:spPr>
          <a:xfrm>
            <a:off x="1459080" y="1182600"/>
            <a:ext cx="6120" cy="5378400"/>
          </a:xfrm>
          <a:prstGeom prst="line">
            <a:avLst/>
          </a:prstGeom>
          <a:ln w="507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74"/>
          <p:cNvSpPr/>
          <p:nvPr/>
        </p:nvSpPr>
        <p:spPr>
          <a:xfrm>
            <a:off x="50760" y="3870360"/>
            <a:ext cx="9023400" cy="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80"/>
          <p:cNvSpPr/>
          <p:nvPr/>
        </p:nvSpPr>
        <p:spPr>
          <a:xfrm>
            <a:off x="2354400" y="2549520"/>
            <a:ext cx="44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92"/>
          <p:cNvSpPr/>
          <p:nvPr/>
        </p:nvSpPr>
        <p:spPr>
          <a:xfrm>
            <a:off x="1522440" y="1128600"/>
            <a:ext cx="741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– ТОФК формирует Авто ДО на сумму перечисления аванса, после получения документа-основания Клиент формирует Сведения о ДО на сумму соответствующего перечисленного аванса  (перечисление осуществляется неоднократн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Скругленный прямоугольник 77"/>
          <p:cNvSpPr/>
          <p:nvPr/>
        </p:nvSpPr>
        <p:spPr>
          <a:xfrm>
            <a:off x="2922480" y="2441520"/>
            <a:ext cx="1060560" cy="1200240"/>
          </a:xfrm>
          <a:custGeom>
            <a:avLst/>
            <a:gdLst>
              <a:gd name="textAreaLeft" fmla="*/ 51480 w 1060560"/>
              <a:gd name="textAreaRight" fmla="*/ 1009080 w 1060560"/>
              <a:gd name="textAreaTop" fmla="*/ 51480 h 1200240"/>
              <a:gd name="textAreaBottom" fmla="*/ 1148760 h 1200240"/>
            </a:gdLst>
            <a:ahLst/>
            <a:rect l="textAreaLeft" t="textAreaTop" r="textAreaRight" b="textAreaBottom"/>
            <a:pathLst>
              <a:path w="21600" h="24444">
                <a:moveTo>
                  <a:pt x="3600" y="0"/>
                </a:moveTo>
                <a:arcTo wR="3600" hR="3600" stAng="16200000" swAng="-5400000"/>
                <a:lnTo>
                  <a:pt x="0" y="20844"/>
                </a:lnTo>
                <a:arcTo wR="3600" hR="3600" stAng="10800000" swAng="-5400000"/>
                <a:lnTo>
                  <a:pt x="18000" y="24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11"/>
          <p:cNvSpPr/>
          <p:nvPr/>
        </p:nvSpPr>
        <p:spPr>
          <a:xfrm>
            <a:off x="2841480" y="244008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5"/>
          <p:cNvSpPr/>
          <p:nvPr/>
        </p:nvSpPr>
        <p:spPr>
          <a:xfrm>
            <a:off x="2841480" y="328932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3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83"/>
          <p:cNvSpPr/>
          <p:nvPr/>
        </p:nvSpPr>
        <p:spPr>
          <a:xfrm>
            <a:off x="2922480" y="1984320"/>
            <a:ext cx="1062000" cy="1666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Скругленный прямоугольник 85"/>
          <p:cNvSpPr/>
          <p:nvPr/>
        </p:nvSpPr>
        <p:spPr>
          <a:xfrm>
            <a:off x="1500120" y="2203560"/>
            <a:ext cx="750960" cy="119988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1199880"/>
              <a:gd name="textAreaBottom" fmla="*/ 1163520 h 1199880"/>
            </a:gdLst>
            <a:ahLst/>
            <a:rect l="textAreaLeft" t="textAreaTop" r="textAreaRight" b="textAreaBottom"/>
            <a:pathLst>
              <a:path w="21600" h="34506">
                <a:moveTo>
                  <a:pt x="3600" y="0"/>
                </a:moveTo>
                <a:arcTo wR="3600" hR="3600" stAng="16200000" swAng="-5400000"/>
                <a:lnTo>
                  <a:pt x="0" y="30906"/>
                </a:lnTo>
                <a:arcTo wR="3600" hR="3600" stAng="10800000" swAng="-5400000"/>
                <a:lnTo>
                  <a:pt x="18000" y="34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7"/>
          <p:cNvSpPr/>
          <p:nvPr/>
        </p:nvSpPr>
        <p:spPr>
          <a:xfrm>
            <a:off x="1424160" y="232884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8"/>
          <p:cNvSpPr/>
          <p:nvPr/>
        </p:nvSpPr>
        <p:spPr>
          <a:xfrm>
            <a:off x="1424160" y="2948040"/>
            <a:ext cx="90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30 руб. (аванс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5" name="Прямая со стрелкой 89"/>
          <p:cNvCxnSpPr>
            <a:stCxn id="282" idx="3"/>
            <a:endCxn id="276" idx="1"/>
          </p:cNvCxnSpPr>
          <p:nvPr/>
        </p:nvCxnSpPr>
        <p:spPr>
          <a:xfrm>
            <a:off x="2250720" y="2803320"/>
            <a:ext cx="104040" cy="116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86" name="Скругленный прямоугольник 90"/>
          <p:cNvSpPr/>
          <p:nvPr/>
        </p:nvSpPr>
        <p:spPr>
          <a:xfrm>
            <a:off x="2922480" y="1994040"/>
            <a:ext cx="1060560" cy="4363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92"/>
          <p:cNvSpPr/>
          <p:nvPr/>
        </p:nvSpPr>
        <p:spPr>
          <a:xfrm>
            <a:off x="1546200" y="3994200"/>
            <a:ext cx="741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 – ТОФК формирует Авто ДО на сумму перечисления аванса, после получения документа-основания Клиент формирует Сведения о ДО на сумму соответствующего перечисленного аванса (перечисление осуществляется единовременн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Схема 1" descr=""/>
          <p:cNvPicPr/>
          <p:nvPr/>
        </p:nvPicPr>
        <p:blipFill>
          <a:blip r:embed="rId1"/>
          <a:stretch/>
        </p:blipFill>
        <p:spPr>
          <a:xfrm>
            <a:off x="1633680" y="274680"/>
            <a:ext cx="5852880" cy="6760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CA2-2178-4D1B-9ED7-61A871022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Прямая со стрелкой 75"/>
          <p:cNvCxnSpPr>
            <a:stCxn id="276" idx="3"/>
            <a:endCxn id="281" idx="1"/>
          </p:cNvCxnSpPr>
          <p:nvPr/>
        </p:nvCxnSpPr>
        <p:spPr>
          <a:xfrm flipV="1">
            <a:off x="2800080" y="2817360"/>
            <a:ext cx="122400" cy="102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91" name="TextBox 180"/>
          <p:cNvSpPr/>
          <p:nvPr/>
        </p:nvSpPr>
        <p:spPr>
          <a:xfrm>
            <a:off x="4913280" y="2492280"/>
            <a:ext cx="44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Скругленный прямоугольник 112"/>
          <p:cNvSpPr/>
          <p:nvPr/>
        </p:nvSpPr>
        <p:spPr>
          <a:xfrm>
            <a:off x="5479920" y="2394000"/>
            <a:ext cx="1062000" cy="1200240"/>
          </a:xfrm>
          <a:custGeom>
            <a:avLst/>
            <a:gdLst>
              <a:gd name="textAreaLeft" fmla="*/ 51840 w 1062000"/>
              <a:gd name="textAreaRight" fmla="*/ 1010160 w 1062000"/>
              <a:gd name="textAreaTop" fmla="*/ 51840 h 1200240"/>
              <a:gd name="textAreaBottom" fmla="*/ 1148400 h 1200240"/>
            </a:gdLst>
            <a:ahLst/>
            <a:rect l="textAreaLeft" t="textAreaTop" r="textAreaRight" b="textAreaBottom"/>
            <a:pathLst>
              <a:path w="21600" h="24411">
                <a:moveTo>
                  <a:pt x="3600" y="0"/>
                </a:moveTo>
                <a:arcTo wR="3600" hR="3600" stAng="16200000" swAng="-5400000"/>
                <a:lnTo>
                  <a:pt x="0" y="20811"/>
                </a:lnTo>
                <a:arcTo wR="3600" hR="3600" stAng="10800000" swAng="-5400000"/>
                <a:lnTo>
                  <a:pt x="18000" y="24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11"/>
          <p:cNvSpPr/>
          <p:nvPr/>
        </p:nvSpPr>
        <p:spPr>
          <a:xfrm>
            <a:off x="5402160" y="238284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5402160" y="323208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2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117"/>
          <p:cNvSpPr/>
          <p:nvPr/>
        </p:nvSpPr>
        <p:spPr>
          <a:xfrm>
            <a:off x="5479920" y="1927080"/>
            <a:ext cx="1062000" cy="16671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Скругленный прямоугольник 119"/>
          <p:cNvSpPr/>
          <p:nvPr/>
        </p:nvSpPr>
        <p:spPr>
          <a:xfrm>
            <a:off x="4060800" y="2146320"/>
            <a:ext cx="749160" cy="1200240"/>
          </a:xfrm>
          <a:custGeom>
            <a:avLst/>
            <a:gdLst>
              <a:gd name="textAreaLeft" fmla="*/ 36360 w 749160"/>
              <a:gd name="textAreaRight" fmla="*/ 712800 w 749160"/>
              <a:gd name="textAreaTop" fmla="*/ 36360 h 1200240"/>
              <a:gd name="textAreaBottom" fmla="*/ 1163880 h 1200240"/>
            </a:gdLst>
            <a:ahLst/>
            <a:rect l="textAreaLeft" t="textAreaTop" r="textAreaRight" b="textAreaBottom"/>
            <a:pathLst>
              <a:path w="21600" h="34599">
                <a:moveTo>
                  <a:pt x="3600" y="0"/>
                </a:moveTo>
                <a:arcTo wR="3600" hR="3600" stAng="16200000" swAng="-5400000"/>
                <a:lnTo>
                  <a:pt x="0" y="30999"/>
                </a:lnTo>
                <a:arcTo wR="3600" hR="3600" stAng="10800000" swAng="-5400000"/>
                <a:lnTo>
                  <a:pt x="18000" y="34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7"/>
          <p:cNvSpPr/>
          <p:nvPr/>
        </p:nvSpPr>
        <p:spPr>
          <a:xfrm>
            <a:off x="3983040" y="227160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8"/>
          <p:cNvSpPr/>
          <p:nvPr/>
        </p:nvSpPr>
        <p:spPr>
          <a:xfrm>
            <a:off x="3983040" y="2890800"/>
            <a:ext cx="90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20 руб. (аванс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Прямая со стрелкой 124"/>
          <p:cNvCxnSpPr>
            <a:stCxn id="296" idx="3"/>
            <a:endCxn id="291" idx="1"/>
          </p:cNvCxnSpPr>
          <p:nvPr/>
        </p:nvCxnSpPr>
        <p:spPr>
          <a:xfrm>
            <a:off x="4809600" y="2746440"/>
            <a:ext cx="104040" cy="116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00" name="Скругленный прямоугольник 127"/>
          <p:cNvSpPr/>
          <p:nvPr/>
        </p:nvSpPr>
        <p:spPr>
          <a:xfrm>
            <a:off x="5479920" y="1936800"/>
            <a:ext cx="1062000" cy="436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2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1" name="Прямая со стрелкой 128"/>
          <p:cNvCxnSpPr>
            <a:stCxn id="291" idx="3"/>
            <a:endCxn id="295" idx="1"/>
          </p:cNvCxnSpPr>
          <p:nvPr/>
        </p:nvCxnSpPr>
        <p:spPr>
          <a:xfrm flipV="1">
            <a:off x="5361120" y="2760480"/>
            <a:ext cx="119520" cy="102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02" name="TextBox 180"/>
          <p:cNvSpPr/>
          <p:nvPr/>
        </p:nvSpPr>
        <p:spPr>
          <a:xfrm>
            <a:off x="7472520" y="2549520"/>
            <a:ext cx="44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Скругленный прямоугольник 130"/>
          <p:cNvSpPr/>
          <p:nvPr/>
        </p:nvSpPr>
        <p:spPr>
          <a:xfrm>
            <a:off x="8040600" y="2451240"/>
            <a:ext cx="1060560" cy="1199880"/>
          </a:xfrm>
          <a:custGeom>
            <a:avLst/>
            <a:gdLst>
              <a:gd name="textAreaLeft" fmla="*/ 51480 w 1060560"/>
              <a:gd name="textAreaRight" fmla="*/ 1009080 w 1060560"/>
              <a:gd name="textAreaTop" fmla="*/ 51480 h 1199880"/>
              <a:gd name="textAreaBottom" fmla="*/ 1148400 h 1199880"/>
            </a:gdLst>
            <a:ahLst/>
            <a:rect l="textAreaLeft" t="textAreaTop" r="textAreaRight" b="textAreaBottom"/>
            <a:pathLst>
              <a:path w="21600" h="24437">
                <a:moveTo>
                  <a:pt x="3600" y="0"/>
                </a:moveTo>
                <a:arcTo wR="3600" hR="3600" stAng="16200000" swAng="-5400000"/>
                <a:lnTo>
                  <a:pt x="0" y="20837"/>
                </a:lnTo>
                <a:arcTo wR="3600" hR="3600" stAng="10800000" swAng="-5400000"/>
                <a:lnTo>
                  <a:pt x="18000" y="244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11"/>
          <p:cNvSpPr/>
          <p:nvPr/>
        </p:nvSpPr>
        <p:spPr>
          <a:xfrm>
            <a:off x="7961400" y="2440080"/>
            <a:ext cx="12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5"/>
          <p:cNvSpPr/>
          <p:nvPr/>
        </p:nvSpPr>
        <p:spPr>
          <a:xfrm>
            <a:off x="7961400" y="3289320"/>
            <a:ext cx="12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5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33"/>
          <p:cNvSpPr/>
          <p:nvPr/>
        </p:nvSpPr>
        <p:spPr>
          <a:xfrm>
            <a:off x="8040600" y="1984320"/>
            <a:ext cx="1062000" cy="1666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кругленный прямоугольник 134"/>
          <p:cNvSpPr/>
          <p:nvPr/>
        </p:nvSpPr>
        <p:spPr>
          <a:xfrm>
            <a:off x="6618240" y="2203560"/>
            <a:ext cx="750960" cy="119988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1199880"/>
              <a:gd name="textAreaBottom" fmla="*/ 1163520 h 1199880"/>
            </a:gdLst>
            <a:ahLst/>
            <a:rect l="textAreaLeft" t="textAreaTop" r="textAreaRight" b="textAreaBottom"/>
            <a:pathLst>
              <a:path w="21600" h="34506">
                <a:moveTo>
                  <a:pt x="3600" y="0"/>
                </a:moveTo>
                <a:arcTo wR="3600" hR="3600" stAng="16200000" swAng="-5400000"/>
                <a:lnTo>
                  <a:pt x="0" y="30906"/>
                </a:lnTo>
                <a:arcTo wR="3600" hR="3600" stAng="10800000" swAng="-5400000"/>
                <a:lnTo>
                  <a:pt x="18000" y="34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47"/>
          <p:cNvSpPr/>
          <p:nvPr/>
        </p:nvSpPr>
        <p:spPr>
          <a:xfrm>
            <a:off x="6541920" y="232884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8"/>
          <p:cNvSpPr/>
          <p:nvPr/>
        </p:nvSpPr>
        <p:spPr>
          <a:xfrm>
            <a:off x="6541920" y="2948040"/>
            <a:ext cx="90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50 руб. (аванс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Прямая со стрелкой 137"/>
          <p:cNvCxnSpPr>
            <a:stCxn id="307" idx="3"/>
            <a:endCxn id="302" idx="1"/>
          </p:cNvCxnSpPr>
          <p:nvPr/>
        </p:nvCxnSpPr>
        <p:spPr>
          <a:xfrm>
            <a:off x="7368840" y="2803320"/>
            <a:ext cx="104040" cy="116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11" name="Скругленный прямоугольник 138"/>
          <p:cNvSpPr/>
          <p:nvPr/>
        </p:nvSpPr>
        <p:spPr>
          <a:xfrm>
            <a:off x="8040600" y="1994040"/>
            <a:ext cx="1060560" cy="4363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5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Прямая со стрелкой 139"/>
          <p:cNvCxnSpPr>
            <a:stCxn id="302" idx="3"/>
            <a:endCxn id="306" idx="1"/>
          </p:cNvCxnSpPr>
          <p:nvPr/>
        </p:nvCxnSpPr>
        <p:spPr>
          <a:xfrm flipV="1">
            <a:off x="7918200" y="2817360"/>
            <a:ext cx="122400" cy="102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13" name="TextBox 180"/>
          <p:cNvSpPr/>
          <p:nvPr/>
        </p:nvSpPr>
        <p:spPr>
          <a:xfrm>
            <a:off x="2500200" y="5346720"/>
            <a:ext cx="44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кругленный прямоугольник 141"/>
          <p:cNvSpPr/>
          <p:nvPr/>
        </p:nvSpPr>
        <p:spPr>
          <a:xfrm>
            <a:off x="3068640" y="5248440"/>
            <a:ext cx="1147680" cy="1199880"/>
          </a:xfrm>
          <a:custGeom>
            <a:avLst/>
            <a:gdLst>
              <a:gd name="textAreaLeft" fmla="*/ 55800 w 1147680"/>
              <a:gd name="textAreaRight" fmla="*/ 1091880 w 1147680"/>
              <a:gd name="textAreaTop" fmla="*/ 55800 h 1199880"/>
              <a:gd name="textAreaBottom" fmla="*/ 1144080 h 1199880"/>
            </a:gdLst>
            <a:ahLst/>
            <a:rect l="textAreaLeft" t="textAreaTop" r="textAreaRight" b="textAreaBottom"/>
            <a:pathLst>
              <a:path w="21600" h="22582">
                <a:moveTo>
                  <a:pt x="3600" y="0"/>
                </a:moveTo>
                <a:arcTo wR="3600" hR="3600" stAng="16200000" swAng="-5400000"/>
                <a:lnTo>
                  <a:pt x="0" y="18982"/>
                </a:lnTo>
                <a:arcTo wR="3600" hR="3600" stAng="10800000" swAng="-5400000"/>
                <a:lnTo>
                  <a:pt x="18000" y="225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11"/>
          <p:cNvSpPr/>
          <p:nvPr/>
        </p:nvSpPr>
        <p:spPr>
          <a:xfrm>
            <a:off x="3030480" y="523728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45"/>
          <p:cNvSpPr/>
          <p:nvPr/>
        </p:nvSpPr>
        <p:spPr>
          <a:xfrm>
            <a:off x="3032280" y="6086520"/>
            <a:ext cx="12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44"/>
          <p:cNvSpPr/>
          <p:nvPr/>
        </p:nvSpPr>
        <p:spPr>
          <a:xfrm>
            <a:off x="3068640" y="4781520"/>
            <a:ext cx="1154160" cy="1666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Скругленный прямоугольник 145"/>
          <p:cNvSpPr/>
          <p:nvPr/>
        </p:nvSpPr>
        <p:spPr>
          <a:xfrm>
            <a:off x="1646280" y="5000760"/>
            <a:ext cx="750960" cy="119988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1199880"/>
              <a:gd name="textAreaBottom" fmla="*/ 1163520 h 1199880"/>
            </a:gdLst>
            <a:ahLst/>
            <a:rect l="textAreaLeft" t="textAreaTop" r="textAreaRight" b="textAreaBottom"/>
            <a:pathLst>
              <a:path w="21600" h="34506">
                <a:moveTo>
                  <a:pt x="3600" y="0"/>
                </a:moveTo>
                <a:arcTo wR="3600" hR="3600" stAng="16200000" swAng="-5400000"/>
                <a:lnTo>
                  <a:pt x="0" y="30906"/>
                </a:lnTo>
                <a:arcTo wR="3600" hR="3600" stAng="10800000" swAng="-5400000"/>
                <a:lnTo>
                  <a:pt x="18000" y="34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7"/>
          <p:cNvSpPr/>
          <p:nvPr/>
        </p:nvSpPr>
        <p:spPr>
          <a:xfrm>
            <a:off x="1569960" y="512604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48"/>
          <p:cNvSpPr/>
          <p:nvPr/>
        </p:nvSpPr>
        <p:spPr>
          <a:xfrm>
            <a:off x="1569960" y="5745240"/>
            <a:ext cx="90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0 руб. (аванс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1" name="Прямая со стрелкой 148"/>
          <p:cNvCxnSpPr>
            <a:stCxn id="318" idx="3"/>
            <a:endCxn id="313" idx="1"/>
          </p:cNvCxnSpPr>
          <p:nvPr/>
        </p:nvCxnSpPr>
        <p:spPr>
          <a:xfrm>
            <a:off x="2397240" y="5600520"/>
            <a:ext cx="103680" cy="116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22" name="Скругленный прямоугольник 149"/>
          <p:cNvSpPr/>
          <p:nvPr/>
        </p:nvSpPr>
        <p:spPr>
          <a:xfrm>
            <a:off x="3068640" y="4716360"/>
            <a:ext cx="1366920" cy="51120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150"/>
          <p:cNvCxnSpPr>
            <a:stCxn id="313" idx="3"/>
            <a:endCxn id="317" idx="1"/>
          </p:cNvCxnSpPr>
          <p:nvPr/>
        </p:nvCxnSpPr>
        <p:spPr>
          <a:xfrm flipV="1">
            <a:off x="2946240" y="5614560"/>
            <a:ext cx="123120" cy="102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95280" y="1987560"/>
            <a:ext cx="592200" cy="73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591840" cy="73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01480" y="5054760"/>
            <a:ext cx="592200" cy="73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6"/>
          <p:cNvGrpSpPr/>
          <p:nvPr/>
        </p:nvGrpSpPr>
        <p:grpSpPr>
          <a:xfrm>
            <a:off x="1152360" y="1768320"/>
            <a:ext cx="2475000" cy="1176480"/>
            <a:chOff x="1152360" y="1768320"/>
            <a:chExt cx="2475000" cy="1176480"/>
          </a:xfrm>
        </p:grpSpPr>
        <p:pic>
          <p:nvPicPr>
            <p:cNvPr id="55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152360" y="1768320"/>
              <a:ext cx="24750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225440" y="1838160"/>
              <a:ext cx="233208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  <a:ea typeface="Open Sans Condensed Light"/>
                </a:rPr>
                <a:t>Приказ комитета финансов Администрации Великого Новгорода от 11.11.2019 №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Скругленный прямоугольник 7"/>
          <p:cNvGrpSpPr/>
          <p:nvPr/>
        </p:nvGrpSpPr>
        <p:grpSpPr>
          <a:xfrm>
            <a:off x="1170000" y="3090960"/>
            <a:ext cx="2554200" cy="1146240"/>
            <a:chOff x="1170000" y="3090960"/>
            <a:chExt cx="2554200" cy="1146240"/>
          </a:xfrm>
        </p:grpSpPr>
        <p:pic>
          <p:nvPicPr>
            <p:cNvPr id="58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170000" y="3090960"/>
              <a:ext cx="25542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41280" y="3162240"/>
              <a:ext cx="241164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  <a:ea typeface="Open Sans Condensed Light"/>
                </a:rPr>
                <a:t>Приказ комитета финансов Администрации Великого Новгорода от 29.11.2019 №3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Скругленный прямоугольник 8"/>
          <p:cNvGrpSpPr/>
          <p:nvPr/>
        </p:nvGrpSpPr>
        <p:grpSpPr>
          <a:xfrm>
            <a:off x="1316160" y="4853160"/>
            <a:ext cx="1908000" cy="1139760"/>
            <a:chOff x="1316160" y="4853160"/>
            <a:chExt cx="1908000" cy="1139760"/>
          </a:xfrm>
        </p:grpSpPr>
        <p:pic>
          <p:nvPicPr>
            <p:cNvPr id="61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1316160" y="4853160"/>
              <a:ext cx="19080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386000" y="4923000"/>
              <a:ext cx="17715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  <a:ea typeface="Open Sans Condensed Light"/>
                </a:rPr>
                <a:t>Приказ МФ РФ от 10.10.2008 № 8н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Скругленный прямоугольник 9"/>
          <p:cNvGrpSpPr/>
          <p:nvPr/>
        </p:nvGrpSpPr>
        <p:grpSpPr>
          <a:xfrm>
            <a:off x="3803760" y="1712880"/>
            <a:ext cx="5029200" cy="1231920"/>
            <a:chOff x="3803760" y="1712880"/>
            <a:chExt cx="5029200" cy="1231920"/>
          </a:xfrm>
        </p:grpSpPr>
        <p:pic>
          <p:nvPicPr>
            <p:cNvPr id="64" name="Скругленный прямоугольник 9" descr=""/>
            <p:cNvPicPr/>
            <p:nvPr/>
          </p:nvPicPr>
          <p:blipFill>
            <a:blip r:embed="rId7"/>
            <a:stretch/>
          </p:blipFill>
          <p:spPr>
            <a:xfrm>
              <a:off x="3803760" y="1712880"/>
              <a:ext cx="50292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76840" y="1789200"/>
              <a:ext cx="48844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Open Sans Condensed Light"/>
                </a:rPr>
                <a:t>Об утверждении порядка учета Управлением Федерального казначейства по Новгородской области бюджетных и денежных обязательств получателей средств бюджета Великого Новгород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Скругленный прямоугольник 10"/>
          <p:cNvGrpSpPr/>
          <p:nvPr/>
        </p:nvGrpSpPr>
        <p:grpSpPr>
          <a:xfrm>
            <a:off x="3803760" y="3090960"/>
            <a:ext cx="5084640" cy="1328760"/>
            <a:chOff x="3803760" y="3090960"/>
            <a:chExt cx="5084640" cy="1328760"/>
          </a:xfrm>
        </p:grpSpPr>
        <p:pic>
          <p:nvPicPr>
            <p:cNvPr id="67" name="Скругленный 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803760" y="3090960"/>
              <a:ext cx="50846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81520" y="3171960"/>
              <a:ext cx="49305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Open Sans Condensed Light"/>
                </a:rPr>
                <a:t>Об утверждении порядка исполнения бюджета Великого Новгорода по расходам  и санкционирования оплаты денежных обязательств получателей средств бюджета Великого Новгород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Скругленный прямоугольник 11"/>
          <p:cNvGrpSpPr/>
          <p:nvPr/>
        </p:nvGrpSpPr>
        <p:grpSpPr>
          <a:xfrm>
            <a:off x="3425760" y="4492800"/>
            <a:ext cx="5505480" cy="1974600"/>
            <a:chOff x="3425760" y="4492800"/>
            <a:chExt cx="5505480" cy="1974600"/>
          </a:xfrm>
        </p:grpSpPr>
        <p:pic>
          <p:nvPicPr>
            <p:cNvPr id="70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3425760" y="4492800"/>
              <a:ext cx="550548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37000" y="4603680"/>
              <a:ext cx="5281560" cy="17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 порядке кассового обслуживания исполнения федерального бюджета, бюджетов субъектов Российской Федерации и местных бюджетов и порядке осуществления территориальными органами Федерального казначейства отдельных функций финансовых органов субъектов Российской Федерации и муниципальных образований по исполнению соответствующих бюджет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Скругленный прямоугольник 12"/>
          <p:cNvGrpSpPr/>
          <p:nvPr/>
        </p:nvGrpSpPr>
        <p:grpSpPr>
          <a:xfrm>
            <a:off x="811080" y="1036800"/>
            <a:ext cx="8021880" cy="609480"/>
            <a:chOff x="811080" y="1036800"/>
            <a:chExt cx="8021880" cy="609480"/>
          </a:xfrm>
        </p:grpSpPr>
        <p:pic>
          <p:nvPicPr>
            <p:cNvPr id="73" name="Скругленный прямоугольник 12" descr=""/>
            <p:cNvPicPr/>
            <p:nvPr/>
          </p:nvPicPr>
          <p:blipFill>
            <a:blip r:embed="rId10"/>
            <a:stretch/>
          </p:blipFill>
          <p:spPr>
            <a:xfrm>
              <a:off x="811080" y="1036800"/>
              <a:ext cx="8021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5720" y="1081080"/>
              <a:ext cx="7935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ормативно-правовое регулирование на уровне бюджета города 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еликий Новгор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1619280" y="189000"/>
            <a:ext cx="6337440" cy="67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a7e"/>
                </a:solidFill>
                <a:latin typeface="Times New Roman"/>
                <a:ea typeface="Times New Roman"/>
              </a:rPr>
              <a:t>ПОРЯДОК САНКЦИОНИРОВАНИЯ РАСХОДОВ ПО ГОСУДАРСТВЕННЫМ КОНТРАКТАМ, УСЛОВИЯМИ КОТОРЫХ ПРЕДУСМОТРЕНЫ АВАНСОВЫЕ ПЛАТЕЖ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714240" y="1371600"/>
            <a:ext cx="79520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лючен государственный контракт на 100 руб., условиями которого предусмотрен аванс 30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авлено на учет бюджетное обязательство на сумму 10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БС представил ЗКР на перечисление аванса на сумму 30 руб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ринял ЗКР к исполн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оставил на учет денежное обязательство на сумму 3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еречислил аванс на сумму 3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БС представил накладную и Сведения о денежном обязательстве на сумму 25 руб., в том числе аванс 2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оставил на учет денежное обязательство на сумму 25 руб., в том числе в зачет ранее выданного аванса – 2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БС представил ЗКР на оплату накладной на сумму 1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ОФК отказал в приеме ЗКР к исполнению, так как аванс полностью не подтвержд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БС представил счет и Сведения о денежном обязательстве на сумму 10 рублей., в том числе аванс 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оставил на учет денежное обязательство на сумму 10 руб., в том числе в зачет ранее выданного аванса – 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БС представил ЗКР на оплату счета на сумму 10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ОФК отказал в приеме ЗКР к исполнению, так как сумма к оплате должна быть не более 5 рублей (10-5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БС представил ЗКР на оплату счета на сумму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=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ФК принял ЗКР к исполн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кругленный прямоугольник 147"/>
          <p:cNvSpPr/>
          <p:nvPr/>
        </p:nvSpPr>
        <p:spPr>
          <a:xfrm>
            <a:off x="1670040" y="3906720"/>
            <a:ext cx="1235160" cy="6987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11"/>
          <p:cNvSpPr/>
          <p:nvPr/>
        </p:nvSpPr>
        <p:spPr>
          <a:xfrm>
            <a:off x="1670040" y="393228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Скругленный прямоугольник 72"/>
          <p:cNvSpPr/>
          <p:nvPr/>
        </p:nvSpPr>
        <p:spPr>
          <a:xfrm>
            <a:off x="50760" y="1555920"/>
            <a:ext cx="1357200" cy="1199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57240" y="1560600"/>
            <a:ext cx="1326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, предусмотренные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ой 2 пункта 8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3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рядку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42"/>
          <p:cNvSpPr/>
          <p:nvPr/>
        </p:nvSpPr>
        <p:spPr>
          <a:xfrm>
            <a:off x="79200" y="2500200"/>
            <a:ext cx="13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75"/>
          <p:cNvSpPr/>
          <p:nvPr/>
        </p:nvSpPr>
        <p:spPr>
          <a:xfrm>
            <a:off x="65160" y="3262320"/>
            <a:ext cx="1328760" cy="6001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Б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2" name="Прямая со стрелкой 79"/>
          <p:cNvCxnSpPr>
            <a:stCxn id="328" idx="2"/>
            <a:endCxn id="331" idx="0"/>
          </p:cNvCxnSpPr>
          <p:nvPr/>
        </p:nvCxnSpPr>
        <p:spPr>
          <a:xfrm flipH="1">
            <a:off x="729360" y="2755440"/>
            <a:ext cx="1080" cy="506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33" name="Прямая соединительная линия 87"/>
          <p:cNvSpPr/>
          <p:nvPr/>
        </p:nvSpPr>
        <p:spPr>
          <a:xfrm>
            <a:off x="1542960" y="1378080"/>
            <a:ext cx="0" cy="3427200"/>
          </a:xfrm>
          <a:prstGeom prst="line">
            <a:avLst/>
          </a:prstGeom>
          <a:ln w="507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ая соединительная линия 88"/>
          <p:cNvSpPr/>
          <p:nvPr/>
        </p:nvSpPr>
        <p:spPr>
          <a:xfrm flipV="1">
            <a:off x="114480" y="4790880"/>
            <a:ext cx="7578720" cy="2988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92"/>
          <p:cNvSpPr/>
          <p:nvPr/>
        </p:nvSpPr>
        <p:spPr>
          <a:xfrm>
            <a:off x="1601640" y="1069920"/>
            <a:ext cx="741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– Клиент формирует Сведения о Д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кругленный прямоугольник 91"/>
          <p:cNvSpPr/>
          <p:nvPr/>
        </p:nvSpPr>
        <p:spPr>
          <a:xfrm>
            <a:off x="1670040" y="1822320"/>
            <a:ext cx="1235160" cy="9525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11"/>
          <p:cNvSpPr/>
          <p:nvPr/>
        </p:nvSpPr>
        <p:spPr>
          <a:xfrm>
            <a:off x="1670040" y="1811160"/>
            <a:ext cx="1235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ПОДТВЕРЖДАЮЩИЙ ВОЗНИКНОВ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5"/>
          <p:cNvSpPr/>
          <p:nvPr/>
        </p:nvSpPr>
        <p:spPr>
          <a:xfrm>
            <a:off x="1670040" y="252720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: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94"/>
          <p:cNvSpPr/>
          <p:nvPr/>
        </p:nvSpPr>
        <p:spPr>
          <a:xfrm>
            <a:off x="1670040" y="1355760"/>
            <a:ext cx="1235160" cy="1419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Скругленный прямоугольник 99"/>
          <p:cNvSpPr/>
          <p:nvPr/>
        </p:nvSpPr>
        <p:spPr>
          <a:xfrm>
            <a:off x="1670040" y="1365120"/>
            <a:ext cx="1227240" cy="436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о 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умму 1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80"/>
          <p:cNvSpPr/>
          <p:nvPr/>
        </p:nvSpPr>
        <p:spPr>
          <a:xfrm>
            <a:off x="3021120" y="5557680"/>
            <a:ext cx="76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БО, Авто Д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92"/>
          <p:cNvSpPr/>
          <p:nvPr/>
        </p:nvSpPr>
        <p:spPr>
          <a:xfrm>
            <a:off x="1623960" y="4867200"/>
            <a:ext cx="741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– ТОФК формирует Авто БО и ДО на сумму перечисления налог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кругленный прямоугольник 126"/>
          <p:cNvSpPr/>
          <p:nvPr/>
        </p:nvSpPr>
        <p:spPr>
          <a:xfrm>
            <a:off x="1646280" y="5213520"/>
            <a:ext cx="904680" cy="1199880"/>
          </a:xfrm>
          <a:custGeom>
            <a:avLst/>
            <a:gdLst>
              <a:gd name="textAreaLeft" fmla="*/ 43920 w 904680"/>
              <a:gd name="textAreaRight" fmla="*/ 860760 w 904680"/>
              <a:gd name="textAreaTop" fmla="*/ 43920 h 1199880"/>
              <a:gd name="textAreaBottom" fmla="*/ 1155960 h 1199880"/>
            </a:gdLst>
            <a:ahLst/>
            <a:rect l="textAreaLeft" t="textAreaTop" r="textAreaRight" b="textAreaBottom"/>
            <a:pathLst>
              <a:path w="21600" h="28645">
                <a:moveTo>
                  <a:pt x="3600" y="0"/>
                </a:moveTo>
                <a:arcTo wR="3600" hR="3600" stAng="16200000" swAng="-5400000"/>
                <a:lnTo>
                  <a:pt x="0" y="25045"/>
                </a:lnTo>
                <a:arcTo wR="3600" hR="3600" stAng="10800000" swAng="-5400000"/>
                <a:lnTo>
                  <a:pt x="18000" y="28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47"/>
          <p:cNvSpPr/>
          <p:nvPr/>
        </p:nvSpPr>
        <p:spPr>
          <a:xfrm>
            <a:off x="1646280" y="5338800"/>
            <a:ext cx="90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алоги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48"/>
          <p:cNvSpPr/>
          <p:nvPr/>
        </p:nvSpPr>
        <p:spPr>
          <a:xfrm>
            <a:off x="1646280" y="611028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0 руб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Скругленный прямоугольник 131"/>
          <p:cNvSpPr/>
          <p:nvPr/>
        </p:nvSpPr>
        <p:spPr>
          <a:xfrm>
            <a:off x="3137040" y="1527120"/>
            <a:ext cx="904680" cy="1200240"/>
          </a:xfrm>
          <a:custGeom>
            <a:avLst/>
            <a:gdLst>
              <a:gd name="textAreaLeft" fmla="*/ 43920 w 904680"/>
              <a:gd name="textAreaRight" fmla="*/ 860760 w 90468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3137040" y="165420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48"/>
          <p:cNvSpPr/>
          <p:nvPr/>
        </p:nvSpPr>
        <p:spPr>
          <a:xfrm>
            <a:off x="3137040" y="2271600"/>
            <a:ext cx="90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кругленный прямоугольник 134"/>
          <p:cNvSpPr/>
          <p:nvPr/>
        </p:nvSpPr>
        <p:spPr>
          <a:xfrm>
            <a:off x="4187880" y="1527120"/>
            <a:ext cx="904680" cy="1200240"/>
          </a:xfrm>
          <a:custGeom>
            <a:avLst/>
            <a:gdLst>
              <a:gd name="textAreaLeft" fmla="*/ 43920 w 904680"/>
              <a:gd name="textAreaRight" fmla="*/ 860760 w 90468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7"/>
          <p:cNvSpPr/>
          <p:nvPr/>
        </p:nvSpPr>
        <p:spPr>
          <a:xfrm>
            <a:off x="4187880" y="165420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8"/>
          <p:cNvSpPr/>
          <p:nvPr/>
        </p:nvSpPr>
        <p:spPr>
          <a:xfrm>
            <a:off x="4187880" y="2271600"/>
            <a:ext cx="90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137"/>
          <p:cNvSpPr/>
          <p:nvPr/>
        </p:nvSpPr>
        <p:spPr>
          <a:xfrm>
            <a:off x="5262480" y="1527120"/>
            <a:ext cx="905040" cy="1200240"/>
          </a:xfrm>
          <a:custGeom>
            <a:avLst/>
            <a:gdLst>
              <a:gd name="textAreaLeft" fmla="*/ 43920 w 905040"/>
              <a:gd name="textAreaRight" fmla="*/ 861120 w 90504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43">
                <a:moveTo>
                  <a:pt x="3600" y="0"/>
                </a:moveTo>
                <a:arcTo wR="3600" hR="3600" stAng="16200000" swAng="-5400000"/>
                <a:lnTo>
                  <a:pt x="0" y="25043"/>
                </a:lnTo>
                <a:arcTo wR="3600" hR="3600" stAng="10800000" swAng="-5400000"/>
                <a:lnTo>
                  <a:pt x="18000" y="28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7"/>
          <p:cNvSpPr/>
          <p:nvPr/>
        </p:nvSpPr>
        <p:spPr>
          <a:xfrm>
            <a:off x="5262480" y="165420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8"/>
          <p:cNvSpPr/>
          <p:nvPr/>
        </p:nvSpPr>
        <p:spPr>
          <a:xfrm>
            <a:off x="5262480" y="2271600"/>
            <a:ext cx="9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Скругленный прямоугольник 140"/>
          <p:cNvSpPr/>
          <p:nvPr/>
        </p:nvSpPr>
        <p:spPr>
          <a:xfrm>
            <a:off x="6580080" y="1531800"/>
            <a:ext cx="905040" cy="1200240"/>
          </a:xfrm>
          <a:custGeom>
            <a:avLst/>
            <a:gdLst>
              <a:gd name="textAreaLeft" fmla="*/ 43920 w 905040"/>
              <a:gd name="textAreaRight" fmla="*/ 861120 w 905040"/>
              <a:gd name="textAreaTop" fmla="*/ 43920 h 1200240"/>
              <a:gd name="textAreaBottom" fmla="*/ 1156320 h 1200240"/>
            </a:gdLst>
            <a:ahLst/>
            <a:rect l="textAreaLeft" t="textAreaTop" r="textAreaRight" b="textAreaBottom"/>
            <a:pathLst>
              <a:path w="21600" h="28643">
                <a:moveTo>
                  <a:pt x="3600" y="0"/>
                </a:moveTo>
                <a:arcTo wR="3600" hR="3600" stAng="16200000" swAng="-5400000"/>
                <a:lnTo>
                  <a:pt x="0" y="25043"/>
                </a:lnTo>
                <a:arcTo wR="3600" hR="3600" stAng="10800000" swAng="-5400000"/>
                <a:lnTo>
                  <a:pt x="18000" y="28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6580080" y="165744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6580080" y="2276640"/>
            <a:ext cx="9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80"/>
          <p:cNvSpPr/>
          <p:nvPr/>
        </p:nvSpPr>
        <p:spPr>
          <a:xfrm>
            <a:off x="5913360" y="19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9" name="Прямая со стрелкой 144"/>
          <p:cNvCxnSpPr>
            <a:endCxn id="346" idx="1"/>
          </p:cNvCxnSpPr>
          <p:nvPr/>
        </p:nvCxnSpPr>
        <p:spPr>
          <a:xfrm>
            <a:off x="2905200" y="2122200"/>
            <a:ext cx="232560" cy="54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60" name="Прямая соединительная линия 145"/>
          <p:cNvSpPr/>
          <p:nvPr/>
        </p:nvSpPr>
        <p:spPr>
          <a:xfrm flipV="1">
            <a:off x="1542960" y="2816280"/>
            <a:ext cx="6048360" cy="30240"/>
          </a:xfrm>
          <a:prstGeom prst="line">
            <a:avLst/>
          </a:prstGeom>
          <a:ln w="1584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92"/>
          <p:cNvSpPr/>
          <p:nvPr/>
        </p:nvSpPr>
        <p:spPr>
          <a:xfrm>
            <a:off x="1636560" y="2846520"/>
            <a:ext cx="741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 – ТОФК формирует Авто ДО на сумму перечис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150"/>
          <p:cNvSpPr/>
          <p:nvPr/>
        </p:nvSpPr>
        <p:spPr>
          <a:xfrm>
            <a:off x="1670040" y="3137040"/>
            <a:ext cx="1235160" cy="14684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Скругленный прямоугольник 152"/>
          <p:cNvSpPr/>
          <p:nvPr/>
        </p:nvSpPr>
        <p:spPr>
          <a:xfrm>
            <a:off x="1670040" y="3137040"/>
            <a:ext cx="1224000" cy="76968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47"/>
          <p:cNvSpPr/>
          <p:nvPr/>
        </p:nvSpPr>
        <p:spPr>
          <a:xfrm>
            <a:off x="1670040" y="32050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48"/>
          <p:cNvSpPr/>
          <p:nvPr/>
        </p:nvSpPr>
        <p:spPr>
          <a:xfrm>
            <a:off x="1670040" y="358776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мму 100 руб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6" name="Прямая со стрелкой 155"/>
          <p:cNvCxnSpPr>
            <a:stCxn id="362" idx="3"/>
            <a:endCxn id="367" idx="1"/>
          </p:cNvCxnSpPr>
          <p:nvPr/>
        </p:nvCxnSpPr>
        <p:spPr>
          <a:xfrm>
            <a:off x="2905200" y="3871800"/>
            <a:ext cx="265680" cy="1152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67" name="TextBox 180"/>
          <p:cNvSpPr/>
          <p:nvPr/>
        </p:nvSpPr>
        <p:spPr>
          <a:xfrm>
            <a:off x="3170160" y="3724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 Д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1601640" y="189000"/>
            <a:ext cx="6210360" cy="529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Open Sans Condensed"/>
              </a:rPr>
              <a:t>ФОРМИРОВАНИЕ СВЕДЕНИЙ О ДО ПРИ ВЫПЛА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Open Sans Condensed"/>
              </a:rPr>
              <a:t>ЗАРАБОТНОЙ ПЛАТЫ И УПЛАТЕ НАЛ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A687-ADAF-405B-B2CF-650EBA29E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0" name="Прямая со стрелкой 59"/>
          <p:cNvCxnSpPr>
            <a:stCxn id="343" idx="3"/>
            <a:endCxn id="341" idx="1"/>
          </p:cNvCxnSpPr>
          <p:nvPr/>
        </p:nvCxnSpPr>
        <p:spPr>
          <a:xfrm>
            <a:off x="2550960" y="5813280"/>
            <a:ext cx="470880" cy="2232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оугольник 58"/>
          <p:cNvGrpSpPr/>
          <p:nvPr/>
        </p:nvGrpSpPr>
        <p:grpSpPr>
          <a:xfrm>
            <a:off x="4548240" y="1011240"/>
            <a:ext cx="4619520" cy="5870520"/>
            <a:chOff x="4548240" y="1011240"/>
            <a:chExt cx="4619520" cy="5870520"/>
          </a:xfrm>
        </p:grpSpPr>
        <p:pic>
          <p:nvPicPr>
            <p:cNvPr id="372" name="Прямоугольник 58" descr=""/>
            <p:cNvPicPr/>
            <p:nvPr/>
          </p:nvPicPr>
          <p:blipFill>
            <a:blip r:embed="rId1"/>
            <a:stretch/>
          </p:blipFill>
          <p:spPr>
            <a:xfrm>
              <a:off x="4548240" y="1011240"/>
              <a:ext cx="461952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572000" y="1033560"/>
              <a:ext cx="4572000" cy="58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Прямоугольник 53"/>
          <p:cNvGrpSpPr/>
          <p:nvPr/>
        </p:nvGrpSpPr>
        <p:grpSpPr>
          <a:xfrm>
            <a:off x="-23760" y="1011240"/>
            <a:ext cx="4619520" cy="5870520"/>
            <a:chOff x="-23760" y="1011240"/>
            <a:chExt cx="4619520" cy="5870520"/>
          </a:xfrm>
        </p:grpSpPr>
        <p:pic>
          <p:nvPicPr>
            <p:cNvPr id="375" name="Прямоугольник 53" descr=""/>
            <p:cNvPicPr/>
            <p:nvPr/>
          </p:nvPicPr>
          <p:blipFill>
            <a:blip r:embed="rId2"/>
            <a:stretch/>
          </p:blipFill>
          <p:spPr>
            <a:xfrm>
              <a:off x="-23760" y="1011240"/>
              <a:ext cx="461952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0" y="1033560"/>
              <a:ext cx="4572000" cy="58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Прямоугольник 8"/>
          <p:cNvGrpSpPr/>
          <p:nvPr/>
        </p:nvGrpSpPr>
        <p:grpSpPr>
          <a:xfrm>
            <a:off x="1042920" y="2011320"/>
            <a:ext cx="987480" cy="981000"/>
            <a:chOff x="1042920" y="2011320"/>
            <a:chExt cx="987480" cy="981000"/>
          </a:xfrm>
        </p:grpSpPr>
        <p:pic>
          <p:nvPicPr>
            <p:cNvPr id="3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1042920" y="2011320"/>
              <a:ext cx="987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065240" y="2033640"/>
              <a:ext cx="946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0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Прямоугольник 21"/>
          <p:cNvGrpSpPr/>
          <p:nvPr/>
        </p:nvGrpSpPr>
        <p:grpSpPr>
          <a:xfrm>
            <a:off x="2041560" y="2011320"/>
            <a:ext cx="987480" cy="981000"/>
            <a:chOff x="2041560" y="2011320"/>
            <a:chExt cx="987480" cy="981000"/>
          </a:xfrm>
        </p:grpSpPr>
        <p:pic>
          <p:nvPicPr>
            <p:cNvPr id="381" name="Прямоугольник 21" descr=""/>
            <p:cNvPicPr/>
            <p:nvPr/>
          </p:nvPicPr>
          <p:blipFill>
            <a:blip r:embed="rId4"/>
            <a:stretch/>
          </p:blipFill>
          <p:spPr>
            <a:xfrm>
              <a:off x="2041560" y="2011320"/>
              <a:ext cx="987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63880" y="2033640"/>
              <a:ext cx="946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1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Прямоугольник 23"/>
          <p:cNvGrpSpPr/>
          <p:nvPr/>
        </p:nvGrpSpPr>
        <p:grpSpPr>
          <a:xfrm>
            <a:off x="3067200" y="2011320"/>
            <a:ext cx="987120" cy="976320"/>
            <a:chOff x="3067200" y="2011320"/>
            <a:chExt cx="987120" cy="976320"/>
          </a:xfrm>
        </p:grpSpPr>
        <p:pic>
          <p:nvPicPr>
            <p:cNvPr id="384" name="Прямоугольник 23" descr=""/>
            <p:cNvPicPr/>
            <p:nvPr/>
          </p:nvPicPr>
          <p:blipFill>
            <a:blip r:embed="rId5"/>
            <a:stretch/>
          </p:blipFill>
          <p:spPr>
            <a:xfrm>
              <a:off x="3067200" y="2011320"/>
              <a:ext cx="987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086280" y="2031840"/>
              <a:ext cx="9442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Прямоугольник 78"/>
          <p:cNvGrpSpPr/>
          <p:nvPr/>
        </p:nvGrpSpPr>
        <p:grpSpPr>
          <a:xfrm>
            <a:off x="5456160" y="2023920"/>
            <a:ext cx="974880" cy="968400"/>
            <a:chOff x="5456160" y="2023920"/>
            <a:chExt cx="974880" cy="968400"/>
          </a:xfrm>
        </p:grpSpPr>
        <p:pic>
          <p:nvPicPr>
            <p:cNvPr id="387" name="Прямоугольник 78" descr=""/>
            <p:cNvPicPr/>
            <p:nvPr/>
          </p:nvPicPr>
          <p:blipFill>
            <a:blip r:embed="rId6"/>
            <a:stretch/>
          </p:blipFill>
          <p:spPr>
            <a:xfrm>
              <a:off x="5456160" y="2023920"/>
              <a:ext cx="9748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73800" y="2039760"/>
              <a:ext cx="944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1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Прямоугольник 82"/>
          <p:cNvGrpSpPr/>
          <p:nvPr/>
        </p:nvGrpSpPr>
        <p:grpSpPr>
          <a:xfrm>
            <a:off x="6772320" y="2011320"/>
            <a:ext cx="987480" cy="976320"/>
            <a:chOff x="6772320" y="2011320"/>
            <a:chExt cx="987480" cy="976320"/>
          </a:xfrm>
        </p:grpSpPr>
        <p:pic>
          <p:nvPicPr>
            <p:cNvPr id="390" name="Прямоугольник 82" descr=""/>
            <p:cNvPicPr/>
            <p:nvPr/>
          </p:nvPicPr>
          <p:blipFill>
            <a:blip r:embed="rId7"/>
            <a:stretch/>
          </p:blipFill>
          <p:spPr>
            <a:xfrm>
              <a:off x="6772320" y="2011320"/>
              <a:ext cx="98748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791400" y="2031840"/>
              <a:ext cx="944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Прямоугольник 96"/>
          <p:cNvGrpSpPr/>
          <p:nvPr/>
        </p:nvGrpSpPr>
        <p:grpSpPr>
          <a:xfrm>
            <a:off x="7821720" y="2011320"/>
            <a:ext cx="987480" cy="976320"/>
            <a:chOff x="7821720" y="2011320"/>
            <a:chExt cx="987480" cy="976320"/>
          </a:xfrm>
        </p:grpSpPr>
        <p:pic>
          <p:nvPicPr>
            <p:cNvPr id="393" name="Прямоугольник 96" descr=""/>
            <p:cNvPicPr/>
            <p:nvPr/>
          </p:nvPicPr>
          <p:blipFill>
            <a:blip r:embed="rId8"/>
            <a:stretch/>
          </p:blipFill>
          <p:spPr>
            <a:xfrm>
              <a:off x="7821720" y="2011320"/>
              <a:ext cx="98748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842240" y="2031840"/>
              <a:ext cx="944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Л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3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Прямоугольник 7"/>
          <p:cNvGrpSpPr/>
          <p:nvPr/>
        </p:nvGrpSpPr>
        <p:grpSpPr>
          <a:xfrm>
            <a:off x="1042920" y="2414520"/>
            <a:ext cx="987480" cy="584280"/>
            <a:chOff x="1042920" y="2414520"/>
            <a:chExt cx="987480" cy="584280"/>
          </a:xfrm>
        </p:grpSpPr>
        <p:pic>
          <p:nvPicPr>
            <p:cNvPr id="396" name="Прямоугольник 7" descr=""/>
            <p:cNvPicPr/>
            <p:nvPr/>
          </p:nvPicPr>
          <p:blipFill>
            <a:blip r:embed="rId9"/>
            <a:stretch/>
          </p:blipFill>
          <p:spPr>
            <a:xfrm>
              <a:off x="1042920" y="2414520"/>
              <a:ext cx="9874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065240" y="2435400"/>
              <a:ext cx="946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0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Прямоугольник 20"/>
          <p:cNvGrpSpPr/>
          <p:nvPr/>
        </p:nvGrpSpPr>
        <p:grpSpPr>
          <a:xfrm>
            <a:off x="2041560" y="2414520"/>
            <a:ext cx="987480" cy="584280"/>
            <a:chOff x="2041560" y="2414520"/>
            <a:chExt cx="987480" cy="584280"/>
          </a:xfrm>
        </p:grpSpPr>
        <p:pic>
          <p:nvPicPr>
            <p:cNvPr id="399" name="Прямоугольник 20" descr=""/>
            <p:cNvPicPr/>
            <p:nvPr/>
          </p:nvPicPr>
          <p:blipFill>
            <a:blip r:embed="rId10"/>
            <a:stretch/>
          </p:blipFill>
          <p:spPr>
            <a:xfrm>
              <a:off x="2041560" y="2414520"/>
              <a:ext cx="9874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63880" y="2435400"/>
              <a:ext cx="946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1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Прямоугольник 22"/>
          <p:cNvGrpSpPr/>
          <p:nvPr/>
        </p:nvGrpSpPr>
        <p:grpSpPr>
          <a:xfrm>
            <a:off x="3067200" y="2408400"/>
            <a:ext cx="987120" cy="583920"/>
            <a:chOff x="3067200" y="2408400"/>
            <a:chExt cx="987120" cy="583920"/>
          </a:xfrm>
        </p:grpSpPr>
        <p:pic>
          <p:nvPicPr>
            <p:cNvPr id="402" name="Прямоугольник 22" descr=""/>
            <p:cNvPicPr/>
            <p:nvPr/>
          </p:nvPicPr>
          <p:blipFill>
            <a:blip r:embed="rId11"/>
            <a:stretch/>
          </p:blipFill>
          <p:spPr>
            <a:xfrm>
              <a:off x="3067200" y="2408400"/>
              <a:ext cx="9871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086280" y="2430360"/>
              <a:ext cx="94428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4" name="TextBox 64"/>
          <p:cNvSpPr/>
          <p:nvPr/>
        </p:nvSpPr>
        <p:spPr>
          <a:xfrm>
            <a:off x="496800" y="22525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КБК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Прямоугольник 68"/>
          <p:cNvGrpSpPr/>
          <p:nvPr/>
        </p:nvGrpSpPr>
        <p:grpSpPr>
          <a:xfrm>
            <a:off x="1719360" y="2444760"/>
            <a:ext cx="304560" cy="536400"/>
            <a:chOff x="1719360" y="2444760"/>
            <a:chExt cx="304560" cy="536400"/>
          </a:xfrm>
        </p:grpSpPr>
        <p:pic>
          <p:nvPicPr>
            <p:cNvPr id="406" name="Прямоугольник 68" descr=""/>
            <p:cNvPicPr/>
            <p:nvPr/>
          </p:nvPicPr>
          <p:blipFill>
            <a:blip r:embed="rId12"/>
            <a:stretch/>
          </p:blipFill>
          <p:spPr>
            <a:xfrm>
              <a:off x="1719360" y="2444760"/>
              <a:ext cx="304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736640" y="2462040"/>
              <a:ext cx="274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Прямоугольник 70"/>
          <p:cNvGrpSpPr/>
          <p:nvPr/>
        </p:nvGrpSpPr>
        <p:grpSpPr>
          <a:xfrm>
            <a:off x="6394320" y="2036880"/>
            <a:ext cx="335160" cy="431640"/>
            <a:chOff x="6394320" y="2036880"/>
            <a:chExt cx="335160" cy="431640"/>
          </a:xfrm>
        </p:grpSpPr>
        <p:pic>
          <p:nvPicPr>
            <p:cNvPr id="409" name="Прямоугольник 70" descr=""/>
            <p:cNvPicPr/>
            <p:nvPr/>
          </p:nvPicPr>
          <p:blipFill>
            <a:blip r:embed="rId13"/>
            <a:stretch/>
          </p:blipFill>
          <p:spPr>
            <a:xfrm>
              <a:off x="6394320" y="2036880"/>
              <a:ext cx="335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427800" y="2068560"/>
              <a:ext cx="27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Прямоугольник 77"/>
          <p:cNvGrpSpPr/>
          <p:nvPr/>
        </p:nvGrpSpPr>
        <p:grpSpPr>
          <a:xfrm>
            <a:off x="5450040" y="2408400"/>
            <a:ext cx="993600" cy="583920"/>
            <a:chOff x="5450040" y="2408400"/>
            <a:chExt cx="993600" cy="583920"/>
          </a:xfrm>
        </p:grpSpPr>
        <p:pic>
          <p:nvPicPr>
            <p:cNvPr id="412" name="Прямоугольник 77" descr=""/>
            <p:cNvPicPr/>
            <p:nvPr/>
          </p:nvPicPr>
          <p:blipFill>
            <a:blip r:embed="rId14"/>
            <a:stretch/>
          </p:blipFill>
          <p:spPr>
            <a:xfrm>
              <a:off x="5450040" y="2408400"/>
              <a:ext cx="99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73800" y="2430360"/>
              <a:ext cx="944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1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4" name="Прямоугольник 79"/>
          <p:cNvGrpSpPr/>
          <p:nvPr/>
        </p:nvGrpSpPr>
        <p:grpSpPr>
          <a:xfrm>
            <a:off x="6772320" y="2408400"/>
            <a:ext cx="987480" cy="583920"/>
            <a:chOff x="6772320" y="2408400"/>
            <a:chExt cx="987480" cy="583920"/>
          </a:xfrm>
        </p:grpSpPr>
        <p:pic>
          <p:nvPicPr>
            <p:cNvPr id="415" name="Прямоугольник 79" descr=""/>
            <p:cNvPicPr/>
            <p:nvPr/>
          </p:nvPicPr>
          <p:blipFill>
            <a:blip r:embed="rId15"/>
            <a:stretch/>
          </p:blipFill>
          <p:spPr>
            <a:xfrm>
              <a:off x="6772320" y="2408400"/>
              <a:ext cx="9874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791400" y="2430360"/>
              <a:ext cx="944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7" name="TextBox 84"/>
          <p:cNvSpPr/>
          <p:nvPr/>
        </p:nvSpPr>
        <p:spPr>
          <a:xfrm>
            <a:off x="4821120" y="225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КБК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Прямоугольник 90"/>
          <p:cNvGrpSpPr/>
          <p:nvPr/>
        </p:nvGrpSpPr>
        <p:grpSpPr>
          <a:xfrm>
            <a:off x="5450040" y="2017800"/>
            <a:ext cx="1274760" cy="974520"/>
            <a:chOff x="5450040" y="2017800"/>
            <a:chExt cx="1274760" cy="974520"/>
          </a:xfrm>
        </p:grpSpPr>
        <p:pic>
          <p:nvPicPr>
            <p:cNvPr id="419" name="Прямоугольник 90" descr=""/>
            <p:cNvPicPr/>
            <p:nvPr/>
          </p:nvPicPr>
          <p:blipFill>
            <a:blip r:embed="rId16"/>
            <a:stretch/>
          </p:blipFill>
          <p:spPr>
            <a:xfrm>
              <a:off x="5450040" y="2017800"/>
              <a:ext cx="12747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473800" y="2039760"/>
              <a:ext cx="123192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TextBox 53"/>
          <p:cNvGrpSpPr/>
          <p:nvPr/>
        </p:nvGrpSpPr>
        <p:grpSpPr>
          <a:xfrm>
            <a:off x="7400880" y="1127160"/>
            <a:ext cx="1645920" cy="1010520"/>
            <a:chOff x="7400880" y="1127160"/>
            <a:chExt cx="1645920" cy="1010520"/>
          </a:xfrm>
        </p:grpSpPr>
        <p:pic>
          <p:nvPicPr>
            <p:cNvPr id="422" name="TextBox 53" descr=""/>
            <p:cNvPicPr/>
            <p:nvPr/>
          </p:nvPicPr>
          <p:blipFill>
            <a:blip r:embed="rId17"/>
            <a:stretch/>
          </p:blipFill>
          <p:spPr>
            <a:xfrm>
              <a:off x="7403760" y="1128600"/>
              <a:ext cx="1643040" cy="10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7400880" y="1127160"/>
              <a:ext cx="16430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момента доведения дополнительных ЛБО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Прямоугольник 95"/>
          <p:cNvGrpSpPr/>
          <p:nvPr/>
        </p:nvGrpSpPr>
        <p:grpSpPr>
          <a:xfrm>
            <a:off x="7821720" y="2408400"/>
            <a:ext cx="987480" cy="583920"/>
            <a:chOff x="7821720" y="2408400"/>
            <a:chExt cx="987480" cy="583920"/>
          </a:xfrm>
        </p:grpSpPr>
        <p:pic>
          <p:nvPicPr>
            <p:cNvPr id="425" name="Прямоугольник 95" descr=""/>
            <p:cNvPicPr/>
            <p:nvPr/>
          </p:nvPicPr>
          <p:blipFill>
            <a:blip r:embed="rId18"/>
            <a:stretch/>
          </p:blipFill>
          <p:spPr>
            <a:xfrm>
              <a:off x="7821720" y="2408400"/>
              <a:ext cx="9874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842240" y="2430360"/>
              <a:ext cx="944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  <a:ea typeface="Open Sans Condensed"/>
                </a:rPr>
                <a:t>БО 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Times New Roman"/>
                  <a:ea typeface="Open Sans Condensed"/>
                </a:rPr>
                <a:t>2023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7" name="Прямая со стрелкой 16"/>
          <p:cNvCxnSpPr/>
          <p:nvPr/>
        </p:nvCxnSpPr>
        <p:spPr>
          <a:xfrm flipH="1">
            <a:off x="6562080" y="1633320"/>
            <a:ext cx="835560" cy="619560"/>
          </a:xfrm>
          <a:prstGeom prst="straightConnector1">
            <a:avLst/>
          </a:prstGeom>
          <a:ln w="28440">
            <a:solidFill>
              <a:srgbClr val="953735"/>
            </a:solidFill>
            <a:miter/>
            <a:tailEnd len="med" type="triangle" w="med"/>
          </a:ln>
        </p:spPr>
      </p:cxnSp>
      <p:grpSp>
        <p:nvGrpSpPr>
          <p:cNvPr id="428" name="Прямоугольник 100"/>
          <p:cNvGrpSpPr/>
          <p:nvPr/>
        </p:nvGrpSpPr>
        <p:grpSpPr>
          <a:xfrm>
            <a:off x="6407280" y="2425680"/>
            <a:ext cx="317520" cy="549360"/>
            <a:chOff x="6407280" y="2425680"/>
            <a:chExt cx="317520" cy="549360"/>
          </a:xfrm>
        </p:grpSpPr>
        <p:pic>
          <p:nvPicPr>
            <p:cNvPr id="429" name="Прямоугольник 100" descr=""/>
            <p:cNvPicPr/>
            <p:nvPr/>
          </p:nvPicPr>
          <p:blipFill>
            <a:blip r:embed="rId19"/>
            <a:stretch/>
          </p:blipFill>
          <p:spPr>
            <a:xfrm>
              <a:off x="6407280" y="2425680"/>
              <a:ext cx="3175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431040" y="2449440"/>
              <a:ext cx="2746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TextBox 26"/>
          <p:cNvGrpSpPr/>
          <p:nvPr/>
        </p:nvGrpSpPr>
        <p:grpSpPr>
          <a:xfrm>
            <a:off x="4857840" y="3408480"/>
            <a:ext cx="3975120" cy="1077480"/>
            <a:chOff x="4857840" y="3408480"/>
            <a:chExt cx="3975120" cy="1077480"/>
          </a:xfrm>
        </p:grpSpPr>
        <p:pic>
          <p:nvPicPr>
            <p:cNvPr id="432" name="TextBox 26" descr=""/>
            <p:cNvPicPr/>
            <p:nvPr/>
          </p:nvPicPr>
          <p:blipFill>
            <a:blip r:embed="rId20"/>
            <a:stretch/>
          </p:blipFill>
          <p:spPr>
            <a:xfrm>
              <a:off x="4859280" y="3409920"/>
              <a:ext cx="3970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857840" y="3408480"/>
              <a:ext cx="3975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ФК в первый рабочий день осуществляет перенос БО, неисполненных в отчётном финансовом году, и постановку учет на лицевом счете ПБ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Овал 27"/>
          <p:cNvSpPr/>
          <p:nvPr/>
        </p:nvSpPr>
        <p:spPr>
          <a:xfrm>
            <a:off x="4664160" y="3811680"/>
            <a:ext cx="189000" cy="2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TextBox 28"/>
          <p:cNvGrpSpPr/>
          <p:nvPr/>
        </p:nvGrpSpPr>
        <p:grpSpPr>
          <a:xfrm>
            <a:off x="4853160" y="4700520"/>
            <a:ext cx="3979800" cy="1806120"/>
            <a:chOff x="4853160" y="4700520"/>
            <a:chExt cx="3979800" cy="1806120"/>
          </a:xfrm>
        </p:grpSpPr>
        <p:pic>
          <p:nvPicPr>
            <p:cNvPr id="436" name="TextBox 28" descr=""/>
            <p:cNvPicPr/>
            <p:nvPr/>
          </p:nvPicPr>
          <p:blipFill>
            <a:blip r:embed="rId21"/>
            <a:stretch/>
          </p:blipFill>
          <p:spPr>
            <a:xfrm>
              <a:off x="4853160" y="4703400"/>
              <a:ext cx="397980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4853160" y="4700520"/>
              <a:ext cx="39798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ент (при необходимости) вносит изменения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учтенное БО в части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фика платежей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уммы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БК (в случае, если КБК изменяется)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Овал 29"/>
          <p:cNvSpPr/>
          <p:nvPr/>
        </p:nvSpPr>
        <p:spPr>
          <a:xfrm>
            <a:off x="4667400" y="4689360"/>
            <a:ext cx="188640" cy="2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31"/>
          <p:cNvSpPr/>
          <p:nvPr/>
        </p:nvSpPr>
        <p:spPr>
          <a:xfrm>
            <a:off x="-1440" y="1036800"/>
            <a:ext cx="153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чётный финансовый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32"/>
          <p:cNvSpPr/>
          <p:nvPr/>
        </p:nvSpPr>
        <p:spPr>
          <a:xfrm>
            <a:off x="4572000" y="1046160"/>
            <a:ext cx="137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кущий финансовый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Прямоугольник 33"/>
          <p:cNvGrpSpPr/>
          <p:nvPr/>
        </p:nvGrpSpPr>
        <p:grpSpPr>
          <a:xfrm>
            <a:off x="0" y="5651640"/>
            <a:ext cx="317520" cy="431640"/>
            <a:chOff x="0" y="5651640"/>
            <a:chExt cx="317520" cy="431640"/>
          </a:xfrm>
        </p:grpSpPr>
        <p:pic>
          <p:nvPicPr>
            <p:cNvPr id="442" name="Прямоугольник 33" descr=""/>
            <p:cNvPicPr/>
            <p:nvPr/>
          </p:nvPicPr>
          <p:blipFill>
            <a:blip r:embed="rId22"/>
            <a:stretch/>
          </p:blipFill>
          <p:spPr>
            <a:xfrm>
              <a:off x="0" y="5651640"/>
              <a:ext cx="3175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0520" y="5672160"/>
              <a:ext cx="2746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0" bIns="38880" anchor="ctr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TextBox 34"/>
          <p:cNvGrpSpPr/>
          <p:nvPr/>
        </p:nvGrpSpPr>
        <p:grpSpPr>
          <a:xfrm>
            <a:off x="378000" y="4968720"/>
            <a:ext cx="2968560" cy="1169640"/>
            <a:chOff x="378000" y="4968720"/>
            <a:chExt cx="2968560" cy="1169640"/>
          </a:xfrm>
        </p:grpSpPr>
        <p:pic>
          <p:nvPicPr>
            <p:cNvPr id="445" name="TextBox 34" descr=""/>
            <p:cNvPicPr/>
            <p:nvPr/>
          </p:nvPicPr>
          <p:blipFill>
            <a:blip r:embed="rId23"/>
            <a:stretch/>
          </p:blipFill>
          <p:spPr>
            <a:xfrm>
              <a:off x="378000" y="4969800"/>
              <a:ext cx="29685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78000" y="4968720"/>
              <a:ext cx="2968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исполненная часть БО,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ривязанная» к № БО, учтенному в 2020 году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регистрируется на 2021 год с типом закупки «2» (прочие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7" name="Схема 5" descr=""/>
          <p:cNvPicPr/>
          <p:nvPr/>
        </p:nvPicPr>
        <p:blipFill>
          <a:blip r:embed="rId24"/>
          <a:stretch/>
        </p:blipFill>
        <p:spPr>
          <a:xfrm>
            <a:off x="1536840" y="262080"/>
            <a:ext cx="7431120" cy="718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158400" y="1033560"/>
            <a:ext cx="888516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A5D5-72F6-42D6-B1E8-95793009DFA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Выгнутая вниз стрелка 1"/>
          <p:cNvSpPr/>
          <p:nvPr/>
        </p:nvSpPr>
        <p:spPr>
          <a:xfrm>
            <a:off x="1812960" y="3000240"/>
            <a:ext cx="4884840" cy="338400"/>
          </a:xfrm>
          <a:custGeom>
            <a:avLst/>
            <a:gdLst>
              <a:gd name="textAreaLeft" fmla="*/ 1179000 w 4884840"/>
              <a:gd name="textAreaRight" fmla="*/ 3705840 w 4884840"/>
              <a:gd name="textAreaTop" fmla="*/ 45360 h 338400"/>
              <a:gd name="textAreaBottom" fmla="*/ 29304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26" hR="21600" stAng="10800000" swAng="-5400000"/>
                <a:lnTo>
                  <a:pt x="11174" y="21600"/>
                </a:lnTo>
                <a:arcTo wR="10426" hR="21600" stAng="5400000" swAng="-3711402"/>
                <a:lnTo>
                  <a:pt x="21269" y="5400"/>
                </a:lnTo>
                <a:lnTo>
                  <a:pt x="21226" y="0"/>
                </a:lnTo>
                <a:lnTo>
                  <a:pt x="20521" y="5400"/>
                </a:lnTo>
                <a:lnTo>
                  <a:pt x="20521" y="5400"/>
                </a:lnTo>
                <a:arcTo wR="10426" hR="21600" stAng="1688598" swAng="3651845"/>
                <a:lnTo>
                  <a:pt x="10800" y="21586"/>
                </a:lnTo>
                <a:arcTo wR="10426" hR="21600" stAng="5459556" swAng="5340444"/>
                <a:close/>
              </a:path>
              <a:path fill="darkenLess" w="21600" h="21600">
                <a:moveTo>
                  <a:pt x="0" y="0"/>
                </a:moveTo>
                <a:arcTo wR="10426" hR="21600" stAng="10800000" swAng="-5400000"/>
                <a:lnTo>
                  <a:pt x="11174" y="21600"/>
                </a:lnTo>
                <a:arcTo wR="10426" hR="21600" stAng="5400000" swAng="59556"/>
                <a:lnTo>
                  <a:pt x="10800" y="21586"/>
                </a:lnTo>
                <a:arcTo wR="10426" hR="21600" stAng="5459556" swAng="5340444"/>
                <a:close/>
              </a:path>
            </a:pathLst>
          </a:custGeom>
          <a:solidFill>
            <a:srgbClr val="4f81bd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Выгнутая вниз стрелка 2"/>
          <p:cNvSpPr/>
          <p:nvPr/>
        </p:nvSpPr>
        <p:spPr>
          <a:xfrm>
            <a:off x="2411280" y="2976480"/>
            <a:ext cx="3600720" cy="381240"/>
          </a:xfrm>
          <a:custGeom>
            <a:avLst/>
            <a:gdLst>
              <a:gd name="textAreaLeft" fmla="*/ 864360 w 3600720"/>
              <a:gd name="textAreaRight" fmla="*/ 2688840 w 36007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372" hR="21600" stAng="10800000" swAng="-5400000"/>
                <a:lnTo>
                  <a:pt x="10943" y="21600"/>
                </a:lnTo>
                <a:arcTo wR="10372" hR="21600" stAng="5400000" swAng="-3703897"/>
                <a:lnTo>
                  <a:pt x="21271" y="5400"/>
                </a:lnTo>
                <a:lnTo>
                  <a:pt x="21029" y="0"/>
                </a:lnTo>
                <a:lnTo>
                  <a:pt x="20128" y="5400"/>
                </a:lnTo>
                <a:lnTo>
                  <a:pt x="20414" y="5400"/>
                </a:lnTo>
                <a:arcTo wR="10372" hR="21600" stAng="1696103" swAng="3658444"/>
                <a:lnTo>
                  <a:pt x="10657" y="21592"/>
                </a:lnTo>
                <a:arcTo wR="10372" hR="21600" stAng="5445453" swAng="5354547"/>
                <a:close/>
              </a:path>
              <a:path fill="darkenLess" w="21600" h="21600">
                <a:moveTo>
                  <a:pt x="0" y="0"/>
                </a:moveTo>
                <a:arcTo wR="10372" hR="21600" stAng="10800000" swAng="-5400000"/>
                <a:lnTo>
                  <a:pt x="10943" y="21600"/>
                </a:lnTo>
                <a:arcTo wR="10372" hR="21600" stAng="5400000" swAng="45453"/>
                <a:lnTo>
                  <a:pt x="10657" y="21592"/>
                </a:lnTo>
                <a:arcTo wR="10372" hR="21600" stAng="5445453" swAng="535454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Выгнутая вниз стрелка 6"/>
          <p:cNvSpPr/>
          <p:nvPr/>
        </p:nvSpPr>
        <p:spPr>
          <a:xfrm>
            <a:off x="3557520" y="2976480"/>
            <a:ext cx="3706920" cy="430200"/>
          </a:xfrm>
          <a:custGeom>
            <a:avLst/>
            <a:gdLst>
              <a:gd name="textAreaLeft" fmla="*/ 886320 w 3706920"/>
              <a:gd name="textAreaRight" fmla="*/ 2766960 w 3706920"/>
              <a:gd name="textAreaTop" fmla="*/ 57600 h 430200"/>
              <a:gd name="textAreaBottom" fmla="*/ 37260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330" hR="21600" stAng="10800000" swAng="-5400000"/>
                <a:lnTo>
                  <a:pt x="10957" y="21600"/>
                </a:lnTo>
                <a:arcTo wR="10330" hR="21600" stAng="5400000" swAng="-3698142"/>
                <a:lnTo>
                  <a:pt x="21272" y="5400"/>
                </a:lnTo>
                <a:lnTo>
                  <a:pt x="20974" y="0"/>
                </a:lnTo>
                <a:lnTo>
                  <a:pt x="20019" y="5400"/>
                </a:lnTo>
                <a:lnTo>
                  <a:pt x="20332" y="5400"/>
                </a:lnTo>
                <a:arcTo wR="10330" hR="21600" stAng="1701858" swAng="3648227"/>
                <a:lnTo>
                  <a:pt x="10644" y="21590"/>
                </a:lnTo>
                <a:arcTo wR="10330" hR="21600" stAng="5449915" swAng="5350085"/>
                <a:close/>
              </a:path>
              <a:path fill="darkenLess" w="21600" h="21600">
                <a:moveTo>
                  <a:pt x="0" y="0"/>
                </a:moveTo>
                <a:arcTo wR="10330" hR="21600" stAng="10800000" swAng="-5400000"/>
                <a:lnTo>
                  <a:pt x="10957" y="21600"/>
                </a:lnTo>
                <a:arcTo wR="10330" hR="21600" stAng="5400000" swAng="49915"/>
                <a:lnTo>
                  <a:pt x="10644" y="21590"/>
                </a:lnTo>
                <a:arcTo wR="10330" hR="21600" stAng="5449915" swAng="535008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Заголовок 1"/>
          <p:cNvSpPr/>
          <p:nvPr/>
        </p:nvSpPr>
        <p:spPr>
          <a:xfrm>
            <a:off x="735120" y="582480"/>
            <a:ext cx="822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регистрации бюджетных обязательств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Заголовок 1"/>
          <p:cNvSpPr/>
          <p:nvPr/>
        </p:nvSpPr>
        <p:spPr>
          <a:xfrm>
            <a:off x="755640" y="582480"/>
            <a:ext cx="822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Заголовок 1"/>
          <p:cNvSpPr/>
          <p:nvPr/>
        </p:nvSpPr>
        <p:spPr>
          <a:xfrm>
            <a:off x="735120" y="582480"/>
            <a:ext cx="822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регистрации бюджетных обязательств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324000" y="938160"/>
            <a:ext cx="86612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Заголовок 1"/>
          <p:cNvSpPr/>
          <p:nvPr/>
        </p:nvSpPr>
        <p:spPr>
          <a:xfrm>
            <a:off x="755640" y="582480"/>
            <a:ext cx="8229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61240" cy="481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-11160" y="1700280"/>
            <a:ext cx="907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59800" cy="48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58920" y="1557360"/>
            <a:ext cx="84247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ядок учета бюджетных и денежных обязатель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а постановки на учет бюджетных обязательств по закупкам товаров, работ, услуг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764388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а постановки на учет бюджетных обязательств по иным документам-основаниям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540072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а постановки на учет бюджетных обязательств по соглашениям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учаи формирования Сведений о Б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ами Федерального казначейства (пункт 11 Перечня докумен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24000" y="1125360"/>
            <a:ext cx="4613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едения о Б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зникших на основан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9" descr=""/>
          <p:cNvPicPr/>
          <p:nvPr/>
        </p:nvPicPr>
        <p:blipFill>
          <a:blip r:embed="rId1"/>
          <a:stretch/>
        </p:blipFill>
        <p:spPr>
          <a:xfrm>
            <a:off x="347760" y="1481040"/>
            <a:ext cx="8272440" cy="43466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112680" y="583092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ом Федерального казначейств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времен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ированием Сведений о денежных обязательствах по данному бюджетному обязательству не позднее следующе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2T06:52:37Z</dcterms:created>
  <dc:creator>Васильев</dc:creator>
  <dc:description/>
  <dc:language>en-US</dc:language>
  <cp:lastModifiedBy>Писателева Татьяна Николаевна</cp:lastModifiedBy>
  <cp:lastPrinted>2019-12-13T12:02:57Z</cp:lastPrinted>
  <dcterms:modified xsi:type="dcterms:W3CDTF">2019-12-17T06:21:14Z</dcterms:modified>
  <cp:revision>525</cp:revision>
  <dc:subject/>
  <dc:title>Презентация PowerPoint</dc:title>
</cp:coreProperties>
</file>